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3725-29A6-4675-889D-53C59316C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att não considera a passagem por nome como um mecanismo de passagem de parâmetros mas sim como um mecanismo de avali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corpo de sum1 poderia ser substituído pelo comando equival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:=a+b+1; a:=a+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s não pode, pois o procedimento dá resultados diferentes na presença de ali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(interessante!!!, equivalência de progs. não é congruência na presença de ali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ificar 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** sqr x = x*x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qr (3+y)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cedure troca (a,b:inte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ar t:integer begin t:=a; a:=b; b:=t; 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   p(i,a[i])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L satisfaz este princípio se consideramos valores de primeira c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vando ao extremo o princípio da correspondência poderiamos chegar a tipos passados como argumentos, funções de primeira orde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bstr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conder detal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centração aspectos essenciais do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centração em idéias mais do que na manifestação destas idé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a consequencia: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u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íveis de abstração para atacar problemas complex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ra que o Vínculo Estático? ... para localizar as variáveis não locais (seguindo o caminho dos ancestrais estátic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ariáveis stack dinâmicas (arrays por exemplo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ra que o Vínculo Dinâmico?  ... para destruir o registro corrente. Note que o reg. de ativação do pai dinâmico é sempre o imediatamente abaixo na pil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r que é necessário? Por que o tamanho do reg. de ativ. nem sempre é conhecida em compilação (ex. arrays dinâmicos) nem em execução pois as vezes o reg. mantém também descritores de outros recursos que o subprograma tá usando (ex. arquivos, sockets, .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019160" y="4786200"/>
          <a:ext cx="5153040" cy="34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4786200"/>
                    <a:ext cx="515304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tação lamb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56E-DD38-45BC-80D7-FC9ADFC2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3DB-D6F3-41FD-AAF5-FAA60F9A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7DD-1595-4261-B975-821D1E48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865-9A43-4FC3-99AE-5F9DAC4D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124B-02C5-4A4E-9132-6FFA08BB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FF17-AF87-4588-941F-18C8C1A4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E7F-CCA1-4635-9F6A-302915E6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B7F6-55E4-4FF5-91C7-F3544B28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C050-F7DB-49C9-AFF3-B17105B3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D889-7490-4F90-A480-0F2994E6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9B9A-E124-47F4-BCDA-C0852329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395-15DF-4D0F-A9E6-1036B2DB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809F-03B6-4E33-8D32-FB2DDC0B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F57B-BE2E-4F02-8078-1DB016C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43EA-16A3-46C2-B8F0-DD3E3A9B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B879-EE68-4A42-98E9-232625A7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47F0-65B2-4992-BFF7-B2AC1A99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DD9-1009-4D9C-BCF4-B4C0025E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B91-4095-4D3A-B6BC-DE079C9A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208-FD5E-47E4-805F-25AE0A69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3FF-529E-45D5-AE85-A8157CBD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5A8-885F-43E1-848B-5273F86C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283-1876-4065-9C38-C257D04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989-2B4C-4F91-B462-FFE3158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A928-24C6-4DEE-8DC5-327158B8C7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101F-B0C3-4351-A738-B9AEE5FDEC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unções e Procedim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iovanny Luc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ecanismos de Parametriz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ndo uma abstração é chamada, cada parâmetro formal será associado com o correspondente parâmetro r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os Semânticos: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in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o é feita essa associaçã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seados em có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valor-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seados em caminho de a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355-EE09-4EDD-A449-9DDBC94C57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râmetros </a:t>
            </a: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r val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o argumento é usado para inicializar o parâmetro f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vantag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Requer mais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Custo da có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Só serve para argumentos que aceitam có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r caminho de acess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vantag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variáveis devem ser protegidas contra escrita no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corpo do subprograma cham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custo de acesso maior (endereçamento indire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938-9491-43EB-AFB1-5DFF37BFFF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râmetros </a:t>
            </a: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locais são passados para quem cha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Usualmente é usado por resultado (cóp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Desvantag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. tempo, espaço, só para argumentos que aceitam cóp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. dependência da ordem pode ser um problema. Ex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sub1(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y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z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b1(x, 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valor de x em quem chama depende da ordem em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que a cópia é realiz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1B4-CEA3-480D-974C-1183201366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râmetros </a:t>
            </a: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in/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valor/resultado (por cópia na entrada e na saí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Desvantag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Todas as de passagem por valor e por 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referência (passa um caminho de aces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Também chamado passagem por compartilh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Vantagem: é eficiente em espaço/tempo (não há cóp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Desvantag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. acesso mais l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. Pode permitir ali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439-5C80-4EF5-88DC-7C67A8DE0D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blemas com </a:t>
            </a: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aliases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um1(var a, b, c: intege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a:=a+1; c:=a+b;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Em geral, o que deveria fazer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m1(x,y,z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. Colisão de parâmetros rea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O que faz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m1(x,x,y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 ser detectado em tempo de compil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i. Colisão de elementos de um arra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O que faz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m1(a[i], a[j],a[k]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também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m2(a, a[i]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Só pode ser detectado em tempo de exec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ii. Colisão entre formais e glob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Passagem por valor/resultado nunca realiza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alias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mas têm outros problem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BB1-8027-437A-AF67-CF566BDDD8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rdem de avali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valiação estrita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ager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 aplicativ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valia os parâmetros reais, faz o vínculo e depois avalia/executa o cor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aticamente todas as linguagens imperativas usam este esquema de avaliação (Algol 60 é a exce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F92-7091-4F5F-9956-1CA278611A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rdem de avali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valiação normal ("passagem por no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z o vínculo com o parâmetro real (talvez uma expressão) e depois avalia/executa o corpo. O valor do parâmetro real será avaliado cada vez que for requerido durante a avaliação do cor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nt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lexibilidade da vinculação tar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 (a,b:integer)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=0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:=b;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 p(x,2*(k*5)) ...  p(2,1/0)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vantagem: não casa bem com a programação im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eficiente se comparada com outros mecanis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l é o resultado d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qr(ord(getchar()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EA6-ED7D-4B7D-AFAC-00B7F5213A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rdem de avali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valiação preguiç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milar com avaliação normal, porém o parâmetro só é avaliado no máximo uma vez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emoizatio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a ausência de efeitos colaterais esta é equivalente com a avaliação normal, porém mais e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ntagens maior abstração com boa efici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ata directed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ruturas potencialmente infini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: Haskell e Mir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36A-1B1E-49D9-8431-9538FE7780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 princípio da Correspondê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á uma correspondência entre certos mecanismos de passagem de parâmetros e certas formas de decl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(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on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x:integer,....) 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corresponde com uma declaração de const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(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x:integer, ....)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corresponde com a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ini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 uma vari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(x:integer, ....)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 declaração de variável com inicial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Princípio da correspondênci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Para cada forma de declaração deveria existir uma forma de passagem de parâmetros e vice-ver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98B-8CED-4E23-84D9-EFED260F9F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emplo: Um Pascal com o princípio da correspondê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claratio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. Form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.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ons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 = 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ons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: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. de tipo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n. constant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m. const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 := 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: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. de tipo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cl. de var. nov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. por val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 = V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: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r. V de tipo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. de variáve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. por refer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2857680"/>
                <a:tab algn="l" pos="5613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m mais uniforme e mais expressiv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4EE-947C-45BE-954C-990917B239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bstr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computação, abstração alude a distinção 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 que?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O que faz uma peça de códi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o?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Como é implement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ões e Procedimentos são abstr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em usa se preocupa com "o qu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em implementa, com o "como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ste curso, uma abstração é uma entidade que envolve alguma compu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efetividade das abstrações são melhoradas com paramet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A72-3863-4D74-B58F-1A21E3C9BF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mplementação de Funções e Procedim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gistro de ativação: o formato dos dados manipulados por um sub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3048120"/>
            <a:ext cx="2514600" cy="4572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riáveis Lo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3962520"/>
            <a:ext cx="2514600" cy="4572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ínculo dinâm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505320"/>
            <a:ext cx="2514600" cy="4572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âme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4419720"/>
            <a:ext cx="2514600" cy="4572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ínculo Est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4876920"/>
            <a:ext cx="2514600" cy="4572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dereço de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81080" y="3352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940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scimento da pil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41960" y="2394000"/>
            <a:ext cx="32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nteiro para o topo do registro de ativação do ch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6000" y="5486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nteiro para o códi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572000" y="3123720"/>
            <a:ext cx="6858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72000" y="4571640"/>
            <a:ext cx="6094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1814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17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nteiro para a base do registro de ativação do pai est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1C6-8AA1-48E8-ADA9-1AB1C059CF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gistro de Ativ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formato do registro de ativação é estático mas seu tamanho pode ser dinâmico. Por qu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instância de um registro de ativação é criada dinamicamente na chamada a um sub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ínculo estático serve para acessar variáveis não lo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ínculo dinâmico para destruir (desempilhar) o corrente registro de ativação (no fim da cham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752-77A0-4EB8-8849-AB9B06F311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120" y="2076480"/>
            <a:ext cx="404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ub(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otal:re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t:intege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lista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arra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[1..5]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teg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ma : re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879800" y="1066680"/>
            <a:ext cx="2605320" cy="4921200"/>
            <a:chOff x="4879800" y="1066680"/>
            <a:chExt cx="2605320" cy="4921200"/>
          </a:xfrm>
        </p:grpSpPr>
        <p:sp>
          <p:nvSpPr>
            <p:cNvPr id="160" name=""/>
            <p:cNvSpPr/>
            <p:nvPr/>
          </p:nvSpPr>
          <p:spPr>
            <a:xfrm>
              <a:off x="4879800" y="1066680"/>
              <a:ext cx="2605320" cy="49212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arâmet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arâmet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vínculo dinâmi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vínculo estáti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ndereço de retor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81600" y="152388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1600" y="198108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81600" y="243828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81600" y="289548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81600" y="335268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81600" y="380988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1600" y="426708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81600" y="464796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1600" y="510516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81600" y="556236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543080" y="1050840"/>
            <a:ext cx="10479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sta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sta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st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st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st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1C2-456B-4A3D-8C0C-05A0811235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0480" y="328680"/>
            <a:ext cx="4063680" cy="630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gra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MAIN_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 : re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(X : intege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Y : boole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(Q : boolea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{ C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&lt;-----------------------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{ C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{ A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&lt;-------------------------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(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{ A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(R : rea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, T : integ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{ B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&lt;-----------------------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(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{ B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{ MAIN_1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(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{ MAIN_1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75720" y="2514600"/>
            <a:ext cx="26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te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N_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all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all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all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81480" y="3805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m ex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28C-0137-43E6-8CB5-4B1BE8E2AC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332360" y="5419800"/>
            <a:ext cx="4534920" cy="459720"/>
            <a:chOff x="1332360" y="5419800"/>
            <a:chExt cx="4534920" cy="459720"/>
          </a:xfrm>
        </p:grpSpPr>
        <p:sp>
          <p:nvSpPr>
            <p:cNvPr id="176" name=""/>
            <p:cNvSpPr/>
            <p:nvPr/>
          </p:nvSpPr>
          <p:spPr>
            <a:xfrm>
              <a:off x="3635280" y="5505480"/>
              <a:ext cx="2232000" cy="29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local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32360" y="541980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RA para 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7280" y="785880"/>
            <a:ext cx="1661040" cy="459720"/>
            <a:chOff x="5867280" y="785880"/>
            <a:chExt cx="1661040" cy="459720"/>
          </a:xfrm>
        </p:grpSpPr>
        <p:sp>
          <p:nvSpPr>
            <p:cNvPr id="179" name=""/>
            <p:cNvSpPr/>
            <p:nvPr/>
          </p:nvSpPr>
          <p:spPr>
            <a:xfrm flipH="1">
              <a:off x="5867280" y="1052640"/>
              <a:ext cx="93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05080" y="7858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op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867280" y="1963800"/>
            <a:ext cx="1661040" cy="459720"/>
            <a:chOff x="5867280" y="1963800"/>
            <a:chExt cx="1661040" cy="459720"/>
          </a:xfrm>
        </p:grpSpPr>
        <p:sp>
          <p:nvSpPr>
            <p:cNvPr id="182" name=""/>
            <p:cNvSpPr/>
            <p:nvPr/>
          </p:nvSpPr>
          <p:spPr>
            <a:xfrm flipH="1">
              <a:off x="5867280" y="2230560"/>
              <a:ext cx="93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05080" y="196380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op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867280" y="3441600"/>
            <a:ext cx="1661040" cy="459720"/>
            <a:chOff x="5867280" y="3441600"/>
            <a:chExt cx="1661040" cy="459720"/>
          </a:xfrm>
        </p:grpSpPr>
        <p:sp>
          <p:nvSpPr>
            <p:cNvPr id="185" name=""/>
            <p:cNvSpPr/>
            <p:nvPr/>
          </p:nvSpPr>
          <p:spPr>
            <a:xfrm flipH="1">
              <a:off x="5867280" y="3708360"/>
              <a:ext cx="93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05080" y="344160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op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883120" y="5216400"/>
            <a:ext cx="1661040" cy="459720"/>
            <a:chOff x="5883120" y="5216400"/>
            <a:chExt cx="1661040" cy="459720"/>
          </a:xfrm>
        </p:grpSpPr>
        <p:sp>
          <p:nvSpPr>
            <p:cNvPr id="188" name=""/>
            <p:cNvSpPr/>
            <p:nvPr/>
          </p:nvSpPr>
          <p:spPr>
            <a:xfrm flipH="1">
              <a:off x="5883120" y="5483160"/>
              <a:ext cx="93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0920" y="521640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op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16040" y="3733920"/>
            <a:ext cx="4611600" cy="1782720"/>
            <a:chOff x="1616040" y="3733920"/>
            <a:chExt cx="4611600" cy="1782720"/>
          </a:xfrm>
        </p:grpSpPr>
        <p:grpSp>
          <p:nvGrpSpPr>
            <p:cNvPr id="191" name=""/>
            <p:cNvGrpSpPr/>
            <p:nvPr/>
          </p:nvGrpSpPr>
          <p:grpSpPr>
            <a:xfrm>
              <a:off x="1616040" y="3733920"/>
              <a:ext cx="4251240" cy="1771560"/>
              <a:chOff x="1616040" y="3733920"/>
              <a:chExt cx="4251240" cy="1771560"/>
            </a:xfrm>
          </p:grpSpPr>
          <p:sp>
            <p:nvSpPr>
              <p:cNvPr id="192" name=""/>
              <p:cNvSpPr/>
              <p:nvPr/>
            </p:nvSpPr>
            <p:spPr>
              <a:xfrm>
                <a:off x="3635280" y="3733920"/>
                <a:ext cx="2232000" cy="298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local 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5280" y="4032360"/>
                <a:ext cx="2232000" cy="2966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local 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35280" y="4329000"/>
                <a:ext cx="2232000" cy="298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parâmetro 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35280" y="4611600"/>
                <a:ext cx="2232000" cy="298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dinâm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35280" y="4910040"/>
                <a:ext cx="2232000" cy="298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estát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35280" y="5208480"/>
                <a:ext cx="2232000" cy="29700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retorno (p/Main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616040" y="426708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IRA para 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724360" y="4797360"/>
              <a:ext cx="503280" cy="719280"/>
            </a:xfrm>
            <a:custGeom>
              <a:avLst/>
              <a:gdLst/>
              <a:ahLst/>
              <a:rect l="l" t="t" r="r" b="b"/>
              <a:pathLst>
                <a:path w="317" h="453">
                  <a:moveTo>
                    <a:pt x="0" y="0"/>
                  </a:moveTo>
                  <a:lnTo>
                    <a:pt x="317" y="0"/>
                  </a:lnTo>
                  <a:lnTo>
                    <a:pt x="317" y="453"/>
                  </a:lnTo>
                  <a:lnTo>
                    <a:pt x="90" y="45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549440" y="2244600"/>
            <a:ext cx="4678200" cy="1489320"/>
            <a:chOff x="1549440" y="2244600"/>
            <a:chExt cx="4678200" cy="1489320"/>
          </a:xfrm>
        </p:grpSpPr>
        <p:grpSp>
          <p:nvGrpSpPr>
            <p:cNvPr id="201" name=""/>
            <p:cNvGrpSpPr/>
            <p:nvPr/>
          </p:nvGrpSpPr>
          <p:grpSpPr>
            <a:xfrm>
              <a:off x="1549440" y="2244600"/>
              <a:ext cx="4317840" cy="1489320"/>
              <a:chOff x="1549440" y="2244600"/>
              <a:chExt cx="4317840" cy="1489320"/>
            </a:xfrm>
          </p:grpSpPr>
          <p:sp>
            <p:nvSpPr>
              <p:cNvPr id="202" name=""/>
              <p:cNvSpPr/>
              <p:nvPr/>
            </p:nvSpPr>
            <p:spPr>
              <a:xfrm>
                <a:off x="3635280" y="2244600"/>
                <a:ext cx="2232000" cy="2970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local 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35280" y="2541600"/>
                <a:ext cx="2232000" cy="29844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parâmetro 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35280" y="2840040"/>
                <a:ext cx="2232000" cy="29844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dinâm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35280" y="3138480"/>
                <a:ext cx="2232000" cy="2970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estát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35280" y="3435480"/>
                <a:ext cx="2232000" cy="29844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retorno (p/B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549440" y="2682720"/>
                <a:ext cx="160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IRA para 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651640" y="2997360"/>
              <a:ext cx="576000" cy="718920"/>
            </a:xfrm>
            <a:custGeom>
              <a:avLst/>
              <a:gdLst/>
              <a:ahLst/>
              <a:rect l="l" t="t" r="r" b="b"/>
              <a:pathLst>
                <a:path w="363" h="453">
                  <a:moveTo>
                    <a:pt x="0" y="0"/>
                  </a:moveTo>
                  <a:lnTo>
                    <a:pt x="363" y="0"/>
                  </a:lnTo>
                  <a:lnTo>
                    <a:pt x="363" y="453"/>
                  </a:lnTo>
                  <a:lnTo>
                    <a:pt x="136" y="45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549440" y="1052640"/>
            <a:ext cx="4606920" cy="1224000"/>
            <a:chOff x="1549440" y="1052640"/>
            <a:chExt cx="4606920" cy="1224000"/>
          </a:xfrm>
        </p:grpSpPr>
        <p:grpSp>
          <p:nvGrpSpPr>
            <p:cNvPr id="210" name=""/>
            <p:cNvGrpSpPr/>
            <p:nvPr/>
          </p:nvGrpSpPr>
          <p:grpSpPr>
            <a:xfrm>
              <a:off x="1549440" y="1052640"/>
              <a:ext cx="4317840" cy="1191960"/>
              <a:chOff x="1549440" y="1052640"/>
              <a:chExt cx="4317840" cy="1191960"/>
            </a:xfrm>
          </p:grpSpPr>
          <p:sp>
            <p:nvSpPr>
              <p:cNvPr id="211" name=""/>
              <p:cNvSpPr/>
              <p:nvPr/>
            </p:nvSpPr>
            <p:spPr>
              <a:xfrm>
                <a:off x="3635280" y="1052640"/>
                <a:ext cx="2232000" cy="29844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parâmetro Q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35280" y="1351080"/>
                <a:ext cx="2232000" cy="29664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dinâm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35280" y="1647720"/>
                <a:ext cx="2232000" cy="29844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estát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35280" y="1946160"/>
                <a:ext cx="2232000" cy="29844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retorno (p/A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549440" y="138744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IRA para 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651640" y="1486080"/>
              <a:ext cx="504720" cy="790560"/>
            </a:xfrm>
            <a:custGeom>
              <a:avLst/>
              <a:gdLst/>
              <a:ahLst/>
              <a:rect l="l" t="t" r="r" b="b"/>
              <a:pathLst>
                <a:path w="318" h="408">
                  <a:moveTo>
                    <a:pt x="0" y="0"/>
                  </a:moveTo>
                  <a:lnTo>
                    <a:pt x="318" y="0"/>
                  </a:lnTo>
                  <a:lnTo>
                    <a:pt x="318" y="408"/>
                  </a:lnTo>
                  <a:lnTo>
                    <a:pt x="136" y="40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482-E1FF-42D0-82DC-67F0F37DAF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332360" y="5419800"/>
            <a:ext cx="4534920" cy="459720"/>
            <a:chOff x="1332360" y="5419800"/>
            <a:chExt cx="4534920" cy="459720"/>
          </a:xfrm>
        </p:grpSpPr>
        <p:sp>
          <p:nvSpPr>
            <p:cNvPr id="218" name=""/>
            <p:cNvSpPr/>
            <p:nvPr/>
          </p:nvSpPr>
          <p:spPr>
            <a:xfrm>
              <a:off x="3635280" y="5505480"/>
              <a:ext cx="2232000" cy="2984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local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32360" y="541980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RA para 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867280" y="785880"/>
            <a:ext cx="1661040" cy="459720"/>
            <a:chOff x="5867280" y="785880"/>
            <a:chExt cx="1661040" cy="459720"/>
          </a:xfrm>
        </p:grpSpPr>
        <p:sp>
          <p:nvSpPr>
            <p:cNvPr id="221" name=""/>
            <p:cNvSpPr/>
            <p:nvPr/>
          </p:nvSpPr>
          <p:spPr>
            <a:xfrm flipH="1">
              <a:off x="5867280" y="1052640"/>
              <a:ext cx="93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05080" y="7858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op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616040" y="3733920"/>
            <a:ext cx="4611600" cy="1782720"/>
            <a:chOff x="1616040" y="3733920"/>
            <a:chExt cx="4611600" cy="1782720"/>
          </a:xfrm>
        </p:grpSpPr>
        <p:grpSp>
          <p:nvGrpSpPr>
            <p:cNvPr id="224" name=""/>
            <p:cNvGrpSpPr/>
            <p:nvPr/>
          </p:nvGrpSpPr>
          <p:grpSpPr>
            <a:xfrm>
              <a:off x="1616040" y="3733920"/>
              <a:ext cx="4251240" cy="1771560"/>
              <a:chOff x="1616040" y="3733920"/>
              <a:chExt cx="4251240" cy="1771560"/>
            </a:xfrm>
          </p:grpSpPr>
          <p:sp>
            <p:nvSpPr>
              <p:cNvPr id="225" name=""/>
              <p:cNvSpPr/>
              <p:nvPr/>
            </p:nvSpPr>
            <p:spPr>
              <a:xfrm>
                <a:off x="3635280" y="3733920"/>
                <a:ext cx="2232000" cy="298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local 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35280" y="4032360"/>
                <a:ext cx="2232000" cy="2966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local 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35280" y="4329000"/>
                <a:ext cx="2232000" cy="298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parâmetro 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635280" y="4611600"/>
                <a:ext cx="2232000" cy="298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dinâm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35280" y="4910040"/>
                <a:ext cx="2232000" cy="298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estát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35280" y="5208480"/>
                <a:ext cx="2232000" cy="29700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retorno (p/Main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16040" y="426708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IRA para 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724360" y="4797360"/>
              <a:ext cx="503280" cy="719280"/>
            </a:xfrm>
            <a:custGeom>
              <a:avLst/>
              <a:gdLst/>
              <a:ahLst/>
              <a:rect l="l" t="t" r="r" b="b"/>
              <a:pathLst>
                <a:path w="317" h="453">
                  <a:moveTo>
                    <a:pt x="0" y="0"/>
                  </a:moveTo>
                  <a:lnTo>
                    <a:pt x="317" y="0"/>
                  </a:lnTo>
                  <a:lnTo>
                    <a:pt x="317" y="453"/>
                  </a:lnTo>
                  <a:lnTo>
                    <a:pt x="90" y="45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549440" y="2244600"/>
            <a:ext cx="4678200" cy="1489320"/>
            <a:chOff x="1549440" y="2244600"/>
            <a:chExt cx="4678200" cy="1489320"/>
          </a:xfrm>
        </p:grpSpPr>
        <p:grpSp>
          <p:nvGrpSpPr>
            <p:cNvPr id="234" name=""/>
            <p:cNvGrpSpPr/>
            <p:nvPr/>
          </p:nvGrpSpPr>
          <p:grpSpPr>
            <a:xfrm>
              <a:off x="1549440" y="2244600"/>
              <a:ext cx="4317840" cy="1489320"/>
              <a:chOff x="1549440" y="2244600"/>
              <a:chExt cx="4317840" cy="1489320"/>
            </a:xfrm>
          </p:grpSpPr>
          <p:sp>
            <p:nvSpPr>
              <p:cNvPr id="235" name=""/>
              <p:cNvSpPr/>
              <p:nvPr/>
            </p:nvSpPr>
            <p:spPr>
              <a:xfrm>
                <a:off x="3635280" y="2244600"/>
                <a:ext cx="2232000" cy="2970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local 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35280" y="2541600"/>
                <a:ext cx="2232000" cy="29844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parâmetro 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35280" y="2840040"/>
                <a:ext cx="2232000" cy="29844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dinâm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35280" y="3138480"/>
                <a:ext cx="2232000" cy="2970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estát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35280" y="3435480"/>
                <a:ext cx="2232000" cy="29844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retorno (p/B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49440" y="2682720"/>
                <a:ext cx="160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IRA para 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651640" y="2997360"/>
              <a:ext cx="576000" cy="718920"/>
            </a:xfrm>
            <a:custGeom>
              <a:avLst/>
              <a:gdLst/>
              <a:ahLst/>
              <a:rect l="l" t="t" r="r" b="b"/>
              <a:pathLst>
                <a:path w="363" h="453">
                  <a:moveTo>
                    <a:pt x="0" y="0"/>
                  </a:moveTo>
                  <a:lnTo>
                    <a:pt x="363" y="0"/>
                  </a:lnTo>
                  <a:lnTo>
                    <a:pt x="363" y="453"/>
                  </a:lnTo>
                  <a:lnTo>
                    <a:pt x="136" y="45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549440" y="1052640"/>
            <a:ext cx="4606920" cy="1224000"/>
            <a:chOff x="1549440" y="1052640"/>
            <a:chExt cx="4606920" cy="1224000"/>
          </a:xfrm>
        </p:grpSpPr>
        <p:grpSp>
          <p:nvGrpSpPr>
            <p:cNvPr id="243" name=""/>
            <p:cNvGrpSpPr/>
            <p:nvPr/>
          </p:nvGrpSpPr>
          <p:grpSpPr>
            <a:xfrm>
              <a:off x="1549440" y="1052640"/>
              <a:ext cx="4317840" cy="1191960"/>
              <a:chOff x="1549440" y="1052640"/>
              <a:chExt cx="4317840" cy="1191960"/>
            </a:xfrm>
          </p:grpSpPr>
          <p:sp>
            <p:nvSpPr>
              <p:cNvPr id="244" name=""/>
              <p:cNvSpPr/>
              <p:nvPr/>
            </p:nvSpPr>
            <p:spPr>
              <a:xfrm>
                <a:off x="3635280" y="1052640"/>
                <a:ext cx="2232000" cy="29844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parâmetro Q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35280" y="1351080"/>
                <a:ext cx="2232000" cy="29664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dinâm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35280" y="1647720"/>
                <a:ext cx="2232000" cy="29844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vinc. estátic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35280" y="1946160"/>
                <a:ext cx="2232000" cy="29844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retorno (p/A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49440" y="138744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IRA para 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51640" y="1486080"/>
              <a:ext cx="504720" cy="790560"/>
            </a:xfrm>
            <a:custGeom>
              <a:avLst/>
              <a:gdLst/>
              <a:ahLst/>
              <a:rect l="l" t="t" r="r" b="b"/>
              <a:pathLst>
                <a:path w="318" h="408">
                  <a:moveTo>
                    <a:pt x="0" y="0"/>
                  </a:moveTo>
                  <a:lnTo>
                    <a:pt x="318" y="0"/>
                  </a:lnTo>
                  <a:lnTo>
                    <a:pt x="318" y="408"/>
                  </a:lnTo>
                  <a:lnTo>
                    <a:pt x="136" y="40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724360" y="5084640"/>
            <a:ext cx="432000" cy="505080"/>
          </a:xfrm>
          <a:custGeom>
            <a:avLst/>
            <a:gdLst/>
            <a:ahLst/>
            <a:rect l="l" t="t" r="r" b="b"/>
            <a:pathLst>
              <a:path w="272" h="318">
                <a:moveTo>
                  <a:pt x="0" y="0"/>
                </a:moveTo>
                <a:lnTo>
                  <a:pt x="272" y="0"/>
                </a:lnTo>
                <a:lnTo>
                  <a:pt x="272" y="318"/>
                </a:lnTo>
                <a:lnTo>
                  <a:pt x="90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357720"/>
            <a:ext cx="648000" cy="2232000"/>
          </a:xfrm>
          <a:custGeom>
            <a:avLst/>
            <a:gdLst/>
            <a:ahLst/>
            <a:rect l="l" t="t" r="r" b="b"/>
            <a:pathLst>
              <a:path w="408" h="1406">
                <a:moveTo>
                  <a:pt x="0" y="0"/>
                </a:moveTo>
                <a:lnTo>
                  <a:pt x="408" y="0"/>
                </a:lnTo>
                <a:lnTo>
                  <a:pt x="408" y="1406"/>
                </a:lnTo>
                <a:lnTo>
                  <a:pt x="272" y="1406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24360" y="1844640"/>
            <a:ext cx="360360" cy="504720"/>
          </a:xfrm>
          <a:custGeom>
            <a:avLst/>
            <a:gdLst/>
            <a:ahLst/>
            <a:rect l="l" t="t" r="r" b="b"/>
            <a:pathLst>
              <a:path w="227" h="318">
                <a:moveTo>
                  <a:pt x="0" y="0"/>
                </a:moveTo>
                <a:lnTo>
                  <a:pt x="227" y="0"/>
                </a:lnTo>
                <a:lnTo>
                  <a:pt x="227" y="318"/>
                </a:lnTo>
                <a:lnTo>
                  <a:pt x="90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A8B-DD7C-40B5-8371-86DB60D308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68000" y="1469880"/>
            <a:ext cx="459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actorial(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lt;----------------------------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n &lt;=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n * factorial(n - 1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lt;----------------------------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oi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main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al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lue = factorial(3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lt;----------------------------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curs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684-2E1C-4F82-B75D-2D670AE999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01840" y="25146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ig. 9.7 ********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9B2-31CC-4182-B178-9980E3337A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unçõ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ão encapsula uma expressão que será avali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geral, em linguagens imperativ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orpo é um comando composto que contém um comando especial que determina o valor do 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vida ao programado à introduzir efeitos colate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stração e vínculo são definidos juntos na decl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ower(x:Real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             n:Integer) : Real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i:integer; p:Re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:=1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fo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i:=1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t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n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d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:=p*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wer := 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ower(x:Real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             n:Integer) : Re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n=1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ower:=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ower:=x*power(x,n-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566-A5C3-4C6D-87C1-AF0C6A326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unçõ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duas visões de uma funçã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o usuário interessa o mape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o implementador, a avaliação do corpo (o algoritm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Linguagens fun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ão encapsula puramente uma expr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stração e vínculos são conceitos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wer x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| n==1 = x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| n/=1  = x * power x (n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wer x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| n==1 = x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| n/=1  =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even 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ower (sqr x)  (div n 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(power (sqr x)  (div n 2))*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164-12CF-475C-A84D-767490B1A5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cedim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cedimentos encapsulam um comando a ser execu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óprio de linguagens impera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usuário só observa as atualizações, não os passos efetuados. Por 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ort(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words:WordsSequenc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o usuário só interessa que o procedimento ord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implementador terá que se preocupar com o algorit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43F-D6B7-4FB6-AE7A-FD7911D781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 princípio da abstra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função é uma abstração sobre uma expressão, i.e., possui como corpo uma expressão e uma chamada é uma expressão que devolve um valor mediante a avaliaçào do cor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procedimento é uma abstração sobre um comando, i.e., possui como corpo um comando e uma chamada realizará efeitos colaterais executando o cor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 princípio da abstra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É possível construir abstrações sobre qualquer classe sintática que especifique alguma forma de compu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tras abstr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strações de sele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strações genéricas (abstrações de declaraçõ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9A3-5764-4204-80E9-CE0EF7498A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Questões de projeto referente a subprogra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. Que métodos de passagem de parâmetros são provid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. Os tipos dos parâmetros são checad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3. Variáveis locais são estáticas ou dinâmic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4. Qual é o ambiente de referências de um subprograma passado como argumen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5. Definições de subprogramas podem ser aninhad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7. Subprogramas podem ser sobrecarregad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8. Subprogramas podem ser genéricos (polimórficos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9. É suportada compilação separada / independ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BE2-DBC8-46DD-B308-29F9B4924E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râmetr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strações são mais poderosas se podem ser parametriz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gument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é um valor que pode ser passado para uma abstração parametr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râmetro form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identificador usado numa abstração para denotar um argu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râmetro re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uma expressão passada como argumento numa instanciação (chamada) da abst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 permite como argu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primitivos, valores compostos (exceto arquivos), ponteiros, referências, funções e procedi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076-FB9A-4D20-B636-4915F336A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rrespondência parâmetro formal/a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 pos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. Por 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  SORT(LIST =&gt; A, LENGTH =&gt; 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ntagem: a ordem é irrelev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vantagem: o usuário precisa saber os nomes do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parâmetros form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Defaul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ORT(LIST : LIST_TYP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NGTH : INTEGER := 10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RT(LIST =&gt; 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10D-0E99-4580-BA88-910578AA63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00:34:10Z</dcterms:created>
  <dc:creator>Prof. Giovanny Lucero</dc:creator>
  <dc:description/>
  <dc:language>en-US</dc:language>
  <cp:lastModifiedBy>DEFAULT</cp:lastModifiedBy>
  <dcterms:modified xsi:type="dcterms:W3CDTF">2003-04-06T07:40:09Z</dcterms:modified>
  <cp:revision>135</cp:revision>
  <dc:subject/>
  <dc:title>Abstrações</dc:title>
</cp:coreProperties>
</file>