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328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70360" y="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3616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6124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70360" y="8661240"/>
            <a:ext cx="296064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EF2B728-C080-4B3D-80FC-B62185923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 bem que perl e lua são linguagens de 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ts estão em armazenáveis porque não podem ser atualizados seletiv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Haskell não tem armazenáv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L não é um linguagem funcional </a:t>
            </a: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pura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a variável ocupa espaço enquanto estiver vi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cução de um bloco =&gt; elaborar declarações locais e então executar o cor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bserv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existência de uma pilha (por isso o nome stack-dinâmic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s duas ocorrências de z são de variáveis diferentes =&gt; variáveis não podem manter o seu conteúdo entre ativa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ar: processo = execução de pr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nsíveis à história = Retém valores entre as execuções do subprog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ifi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nteiros: cidadãos de primeira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ferências: cidadãs de segunda clas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leita de lixo usando contador de referênc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Pascal, desalocação explícita é feita com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is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ascal Padrão referências a variáveis do stack são cidadãs de segunda clas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unções como resultado de funções também pode produzir ref. oscil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e conceito de variável não tem nada a ver com o conceito de variável usado na matemátic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conceito de variável é fundamental na prog. imp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odemos abstrair a memória do computador em termos de células abstratas (abstratamente, um inteiro ocupa uma célula. Concretamete: dois by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raterística de lings. imperativ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+:=1   ALGOL 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terminismo &amp; não determini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terminismo = a seqüência de passos é previsí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ão determinismo =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terminismo efetivo = apesar da seqüência de passos ser não determinística o resultado é sempre previsível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dicional não determinístico útil para primitivas de concorrência (semáforos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R e OCCAM possuem condicional não determinísit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Haskel e ML, case trabalha junto com casamento de padrõ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teração é peculiar do paradigma impe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a: o while é um caso particular de recurs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peat C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while E do C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ral. o while e repeat são um caso particular deste usando sk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ão tem sido adot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a pratica se usam bre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r V:=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{ADA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r V in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SetExp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{Num hipotético Pascal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,...,e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nd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;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inc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...,inc</a:t>
            </a:r>
            <a:r>
              <a:rPr b="0" i="1" lang="pt-BR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{C, C++, Java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(Java é mais seguro, permite for (int i=0; ....)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valiação única dos parâmetros do laço?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r i:=e1 to e2 by e3 do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1, e2 e e3 são avaliados só uma vez, no começ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r (int i=1; ...) {...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m Java o escopo de i é a porção de texto dentro das {}, em C++ (versão anterior ao padrão 99) o escopo de i é da declaração pra baixo, dentro do bloco onde o for estiv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m Pascal: read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uma variável não é um 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 fossemos rigorosos deveríamos dizer: o conteúdo da célula denotada por n. Porém, só dizemos o valor contido em n, ou mais simplesmente, o valor de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rês categorias – de acordo com o momento em que as variáveis são criadas (componen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urbo Pa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cedure sum (arr: array of integer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r i,t:inte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 i:= **inicio(arr)** to **fim(arr)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:=t+arr[i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riteln(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d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652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0800" y="4330800"/>
            <a:ext cx="5008680" cy="4101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da, stack dinâ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tran 90, C e C++: heap dinâm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: malloc e 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++: new e delete  **** ver sintaxe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rtran 90: allocate e deallo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4C5B-0471-4345-8E97-292BF530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0F5-06B6-4522-8F43-2734CF4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F5C-9FF4-41C7-B0C1-475DE5BC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D23-3AB4-417E-A213-D5E6F15ED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3171-DD64-4B08-AB66-05CEEC08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482F-CE4B-4688-9AA2-B8C7CBFE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2A06-C743-4293-BDF8-CD5D6B01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0CEE-F8A9-4F02-B020-ECC37D51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B26F-FF0A-4FFA-BF7E-C1502AC7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B1CD-3A5A-437C-AE00-C19698F7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6FDD-C1C3-4B90-AACA-1DF7AE57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808-8E2F-48F3-8D71-25790A63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6101-700C-4261-B511-B9356892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568D-11E5-4525-9991-043F9933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B135-6542-4E31-A030-EE8BE44E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85B-688C-488A-A45D-6A4D1AD5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ECE-46C9-4D4F-889B-E0D94774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578-C873-43A4-B213-D4459947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235B-5E0A-47D5-BF51-EACC8ED7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F16-692A-4762-9CD3-396B2FD2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E15E-C916-45D4-BA2F-ECADCF06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F89-F0EF-4EE5-892A-4342884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66E-074D-4B5F-A1A7-73716AC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62E-D3C3-4EE5-BC11-EA5ECB4F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E493-CF7E-4DCD-9330-8FB73904DA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EC70-D149-4B6C-A7AA-2AA1F4B72E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64848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209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39080" y="0"/>
            <a:ext cx="381240" cy="685800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2f002f"/>
              </a:gs>
              <a:gs pos="50000">
                <a:srgbClr val="660066"/>
              </a:gs>
              <a:gs pos="100000">
                <a:srgbClr val="2f00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O Paradigma Imperativo: Armazen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f. Giovanny Luc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rrays Flexí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Índices não são fixados – podem aumentar ou diminuir a qualquer mo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remos dos índices fazem parte do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ralmente não são predefinidos nas linguagens e são oferecidos dentro de bibliotecas: Java, C++, Smalltalk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uns casos exepcionais são os Arrays associativos de PERL e LUA – implementados mediante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as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829-8444-4713-A30E-C072F64B82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rmazená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que podem ser armazenados numa única célula, que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ão podem ser atualizados seletiv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primi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ju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ntei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es primitivos, registros, construções e 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ferências a var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21E-A7C7-4DA3-86A0-B9CC8C65E0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Tempo de V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O tempo de vida de uma variável é o intervalo entre a sua criação (alocação) e a sua destruição (desalocaçã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 acordo com o tempo de vida, variáveis classificam-se 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dinâ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eap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dinâ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541-70D4-494B-B0A5-75513400A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Stack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-Dinâm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Variáveis criadas durante a elaboração de declaraçõ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Elaboração de uma declaraçã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processo de alocação e vinculação com um endereço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ariável loc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declarada dentro de um bloco para ser usada somente dentro de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ariável glob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declarada no bloco mais externo de um progra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tivação de um blo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intervalo de tempo durante o qual um bloco está sendo execu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C55-9AB0-4569-9942-46AB19218A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6720" y="2971800"/>
            <a:ext cx="5333760" cy="32767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73512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lings. ao estilo Pascal, o tempo de vida de uma variável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dinâmica se corresponde exatamente com a ativação do bloco que contém a sua decl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4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35120"/>
                <a:tab algn="l" pos="97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gram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x : ...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R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z : ...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Q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y : ...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 R ..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... Q ... R ...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</a:t>
            </a:r>
            <a:r>
              <a:rPr b="0" i="1" lang="pt-BR" sz="4400" spc="-1" strike="noStrike">
                <a:solidFill>
                  <a:srgbClr val="ffff00"/>
                </a:solidFill>
                <a:latin typeface="Times New Roman"/>
              </a:rPr>
              <a:t>Stack</a:t>
            </a: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-Dinâm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4495680"/>
            <a:ext cx="48769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4343400"/>
            <a:ext cx="7596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4343400"/>
            <a:ext cx="7596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343400"/>
            <a:ext cx="7596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4343400"/>
            <a:ext cx="759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4343400"/>
            <a:ext cx="759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4343400"/>
            <a:ext cx="7632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4343400"/>
            <a:ext cx="7596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4343400"/>
            <a:ext cx="7632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3173760" y="35316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Times New Roman"/>
              </a:rPr>
              <a:t>início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832560" y="350424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Times New Roman"/>
              </a:rPr>
              <a:t>início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4527000" y="348768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Times New Roman"/>
              </a:rPr>
              <a:t>início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348160" y="3668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fim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025680" y="363132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fim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509880" y="35355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9933"/>
                </a:solidFill>
                <a:latin typeface="Times New Roman"/>
              </a:rPr>
              <a:t>início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7178760" y="3641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fim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7727400" y="365724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ccff"/>
                </a:solidFill>
                <a:latin typeface="Times New Roman"/>
              </a:rPr>
              <a:t>fim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49528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5181480"/>
            <a:ext cx="20574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5486400"/>
            <a:ext cx="441972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181480"/>
            <a:ext cx="53316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92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406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24600" y="4935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680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9080" y="568008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EMPOS DE VIDA DAS VAR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4958-0939-475E-AF60-6E68807A6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Estát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Variáveis vinculadas a células de memória antes do início da execução do programa e que subsistem enquanto o processo exist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Úteis para escrever subprograma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nsíveis à hist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.: procedimento de geração de números aleató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ficientes: endereçamento dir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tran I, II e IV: todas as variáveis eram est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recursão é impossí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, C++ e Java: usando o modificador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não 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84C-F74D-4842-A4B0-C2A9C25D1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Heap-Dinâmic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Variáveis anônimas acessadas através de ponteiros ou referências e que podem ser criadas e destruídas a qualquer t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heap é um conjunto de células de memó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variável é criada usando um operador de aloc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tempo de vida de uma variável heap-dinâmica estende-se desde a sua criação até ficar inacessí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struição de uma variáv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Pascal, Ada, C, C++: explicita usando comando de desalocação (PERIGOS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Java: coleta de lixo automá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5751-2F6E-40E2-A7CC-BBF4C6D352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partilhamen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List = ^IntNode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tNode =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recor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head: integer; tail: IntList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dds, primes : IntList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ons (h: integer; t: IntList) : IntList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l: IntList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new(l); l^.head := h; l^.tail := t; cons := l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odds := cons( 3, cons ( 5, cons ( 7,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ni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) ) )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imes := cons ( 2, odds )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141880"/>
            <a:ext cx="38124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5599080"/>
            <a:ext cx="381240" cy="30492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71800" y="5065560"/>
            <a:ext cx="609480" cy="459720"/>
            <a:chOff x="2971800" y="5065560"/>
            <a:chExt cx="609480" cy="459720"/>
          </a:xfrm>
        </p:grpSpPr>
        <p:sp>
          <p:nvSpPr>
            <p:cNvPr id="175" name=""/>
            <p:cNvSpPr/>
            <p:nvPr/>
          </p:nvSpPr>
          <p:spPr>
            <a:xfrm>
              <a:off x="2971800" y="5141880"/>
              <a:ext cx="609480" cy="30492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52680" y="5141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17520" y="50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114800" y="5065560"/>
            <a:ext cx="609480" cy="459720"/>
            <a:chOff x="4114800" y="5065560"/>
            <a:chExt cx="609480" cy="459720"/>
          </a:xfrm>
        </p:grpSpPr>
        <p:sp>
          <p:nvSpPr>
            <p:cNvPr id="179" name=""/>
            <p:cNvSpPr/>
            <p:nvPr/>
          </p:nvSpPr>
          <p:spPr>
            <a:xfrm>
              <a:off x="4114800" y="5141880"/>
              <a:ext cx="609480" cy="30492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5680" y="5141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6240" y="50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257800" y="5065560"/>
            <a:ext cx="609480" cy="459720"/>
            <a:chOff x="5257800" y="5065560"/>
            <a:chExt cx="609480" cy="459720"/>
          </a:xfrm>
        </p:grpSpPr>
        <p:sp>
          <p:nvSpPr>
            <p:cNvPr id="183" name=""/>
            <p:cNvSpPr/>
            <p:nvPr/>
          </p:nvSpPr>
          <p:spPr>
            <a:xfrm>
              <a:off x="5257800" y="5141880"/>
              <a:ext cx="609480" cy="30492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38680" y="5141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3880" y="50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477120" y="5065560"/>
            <a:ext cx="609480" cy="459720"/>
            <a:chOff x="6477120" y="5065560"/>
            <a:chExt cx="609480" cy="459720"/>
          </a:xfrm>
        </p:grpSpPr>
        <p:sp>
          <p:nvSpPr>
            <p:cNvPr id="187" name=""/>
            <p:cNvSpPr/>
            <p:nvPr/>
          </p:nvSpPr>
          <p:spPr>
            <a:xfrm>
              <a:off x="6477120" y="5141880"/>
              <a:ext cx="609480" cy="30492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58000" y="514188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23200" y="5065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209680" y="529416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52941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529416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529416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529416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529416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5599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57164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209680" y="5446800"/>
            <a:ext cx="19051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6920" y="5029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i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5520" y="55227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d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CA5-9FBF-46F5-AEFC-9AE2294DF8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Referências oscila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perador de desalocação introduz referências oscil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ferências a variáveis do stack també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r : ^Integer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v: Integer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r := @v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; r^:=1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unções cidadãs de primeira classe també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fv : Integer -&gt; Boolean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v : ...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unctio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f( n : Integer) : 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oolea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 v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fv := @f;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P; ... fv(0)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C67-C4F5-465F-A817-CB2338E89B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Variáveis </a:t>
            </a:r>
            <a:r>
              <a:rPr b="0" i="1" lang="pt-BR" sz="4000" spc="-1" strike="noStrike">
                <a:solidFill>
                  <a:srgbClr val="ffff00"/>
                </a:solidFill>
                <a:latin typeface="Times New Roman"/>
              </a:rPr>
              <a:t>Heap</a:t>
            </a: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-Dinâmicas - resum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exibilidade para construir estruturas de dados dinâmicas (valores recursivos, por exemp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nsegurança (confiabilidade) -- ponteiros são suscetíveis a falhas e podem produzir efeitos esc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onteiros oscilantes (penden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zamento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mpartilh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istem paradigmas baseados em compartilha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ior segurança mediante coleta automática de lix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ipos recursivos são uma alternativa segura para os pontei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9B8-0670-41B7-9769-19FDCA4D42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410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Uma variável é um objeto que contém um valor, este valor pode ser inspecionado e atu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uas classes de variáve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transien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2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bstração de uma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élula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ou conjunto de células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2240" indent="-214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izadas através de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tribu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ersistente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arquivos e bancos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podem estar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defi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91160" y="2919240"/>
            <a:ext cx="1960920" cy="2105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n:intege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:=0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:=n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r>
              <a:rPr b="0" lang="pt-BR" sz="24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2971800"/>
            <a:ext cx="457200" cy="3207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733920"/>
            <a:ext cx="457200" cy="32040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267080"/>
            <a:ext cx="457200" cy="3207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680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680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68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2760" y="2082960"/>
            <a:ext cx="29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riável Trans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A423-AFAC-468D-BBB7-3293BC8C36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persist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cujo tempo de vida transcende a ativação de qualquer programa. Por ex., arquivos, banco de dados e objetos distribuí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5539-210B-4CD3-A7B6-22923F178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persisten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14800" cy="457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gram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tatAn(stats)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untry = (B,D,DK,E,GB)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isitics =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p:integer;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s :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[Country]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of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               Statistic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analysesstat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readstats; analysestat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gram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tatAn(statsfile)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untry = (B,D,DK,E,GB)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isitics =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rec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p:integer;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s :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[Country]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istic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atsfile :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fil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of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Statistic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readstat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analysesstat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 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...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   readstats; analysestats;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58C-05FD-42CE-82CA-AC82DE5EBA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imes New Roman"/>
              </a:rPr>
              <a:t>Comandos (Sentenças ou Instruções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f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 Um comando é uma frase de um programa que ao ser executada atualiza o conteúdo de var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k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é uma abreviação de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k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Atribui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:=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if ... then m else n) :=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 := n := 0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ribuição múltip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,n := n,m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ribuição simultâ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 +: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99A-6835-42EB-B71A-632C15ABEA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andos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-referência explícita ou implícita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l-valu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r-valu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ad(n); n:=n+1; write(n);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ilo Pa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ad(n); n:=!n+1; write(!n);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ilo 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madas a procedim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andos seqüenciais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andos colat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:=7 , n:=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:=7 , n:=n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5400" indent="0">
              <a:spcBef>
                <a:spcPts val="601"/>
              </a:spcBef>
              <a:buNone/>
              <a:tabLst>
                <a:tab algn="l" pos="0"/>
                <a:tab algn="l" pos="5524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n é inicialmente zero os possíveis valores de n no fim são 8, 7 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422-6EE5-4263-B1BD-412D6D64C8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andos compos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comando_1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leção de comandos abstraídos num ú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 base dos comandos da prog. estrutur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Bloco e comando composto são diferentes conce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ntro de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mandos de control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(if, while, ...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permite comandos compostos mas não blo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lgol, Java, C++, ... permitem blo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4EBB-8D57-4D44-A90D-5B26354B94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Comandos condiciona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6483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2384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2384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 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 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l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2384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ond. não determinísitic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1238400"/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|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| 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64832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ase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baseados em valores discretos primitivos (como em Pascal, Ada, ...)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cas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of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  ...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   L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askell e ML permitem cases baseados em valores de qualquer tipo que possua igual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771-45E3-4AC0-BE5F-5A35912A30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teração indefin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whil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quivale 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he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whil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pea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unti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forma mais geral:</a:t>
            </a:r>
            <a:r>
              <a:rPr b="0" lang="pt-BR" sz="2400" spc="-1" strike="noStrike">
                <a:solidFill>
                  <a:srgbClr val="99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repea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whil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FC8-D068-493B-8CD5-242C2D361C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Iteração defin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343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:=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:=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wn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:=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br>
              <a:rPr sz="2400"/>
            </a:b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SetExp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,...,e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o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in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...,inc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pt-BR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stões de proj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copo da variável de contro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lor da variável de controle depois da iteraçã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epois de um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got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que passa se a var. de controle é modificada dentro do laç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valiação única dos parâmetros do laç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0A0E-0171-4F4D-84F8-5AD91F655E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Expressões com efeitos colatera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C, C++ e Ja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i++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++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x = y = 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whil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(ch=getChar(f))!= '*') write(c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usado sem critério traz problemas de legibili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aciocínio com programas (expressões) é mais difíc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48E-672F-4A89-A184-D0ED4BEE68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O valor de uma variáve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considere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:=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duas ocorrências de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screvem entidades difer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alor-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o primeiro </a:t>
            </a: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nota a célula de memória. Em termos de implementação, o valor-l é um endereço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Valor-r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: o segundo </a:t>
            </a:r>
            <a:r>
              <a:rPr b="0" lang="pt-BR" sz="2400" spc="-1" strike="noStrike">
                <a:solidFill>
                  <a:srgbClr val="ccccff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nota o conteúdo da cél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Variáveis podem ter um nome, no entan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variável não precisa ter um n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possível que dois nomes se refiram a uma mesma célula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alias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linguagens tipadas, variáveis tem um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CD4-46CD-4CB9-AAE8-DA5EAE0E0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Compo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2462040"/>
                <a:tab algn="l" pos="27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variável de um tipo composto é uma variável constituída de outras variáveis mais simples, chamadas de compo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857160"/>
                <a:tab algn="l" pos="2462040"/>
                <a:tab algn="l" pos="27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s componentes de uma variável composta podem ser inspecionadas e atualizada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letiv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1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2462040"/>
                <a:tab algn="l" pos="2749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ata = record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a:1..31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s:1..12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hoje:data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je.dia :=14;  hoje.mes:=1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4844880"/>
            <a:ext cx="457200" cy="3207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5165640"/>
            <a:ext cx="457200" cy="320760"/>
          </a:xfrm>
          <a:prstGeom prst="rect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17880" y="47642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21480" y="51037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4648320"/>
            <a:ext cx="304560" cy="99036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4320" y="4875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2E32-B44F-47C5-A828-AC03431E1C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tualização: seletiva e tot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atas, dts : array[1..5] of data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tas[1].m:=5; datas[1].d:=5;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atualização seletiva}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day := datas[4]; 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tas[2] := today;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seletiva e total}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atas := dts;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tota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tualização seletiva não é imprescindível. Por ex., ML não tem atualização sele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ata = int*int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day : data ref = ref (14,12)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só total}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ata1= int ref * int ref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l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today1 : data1 = (ref 14, ref 23) </a:t>
            </a:r>
            <a:r>
              <a:rPr b="0" lang="pt-BR" sz="2400" spc="-1" strike="noStrike">
                <a:solidFill>
                  <a:srgbClr val="ff9900"/>
                </a:solidFill>
                <a:latin typeface="Arial"/>
              </a:rPr>
              <a:t>{só seletiva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4424-F8D5-403F-9562-3058E3FC1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Variáveis Array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Uma variável array pode ser entendida como um mapeamento: dos índices em variáv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 os índices forem finitos e consecutivos, eles são implementados armazenando os componentes numa seqüência de memó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Três categorias de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stá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nâmicos (stack-dinâmicos e heap-dinâm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lexíveis (heap-dinâm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82C4-A605-4646-BE66-881EF1809E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rrays Estát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Índices fixados em tempo de compi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onjunto dos índices faz parte do t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scal original não permite subprogramas que atuem em arrays de diferentes taman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ISO Pascal introduz arrays </a:t>
            </a:r>
            <a:r>
              <a:rPr b="0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nform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86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mList (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va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m: intege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lista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[inf..sup:integer]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f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         integer )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:=inf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p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...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03F-0AEA-44E3-8C34-0849D9C7DD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rrays Dinâm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Índices fixados na execução, no momento em que a variável é cri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 conjunto dos índices não faz parte do tipo, porém o tipo dos índices fa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s extremos dos índices fazem parte do va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m Ada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tack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-dinâmicos: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T(List_Len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eclare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List 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1..List_Len) of INTEGER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begin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F179-A079-4746-ADB9-A08E30D4B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172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Arrays Dinâm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Outro exemplo em 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yp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Vector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is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array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(Integer range&lt;&gt;)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f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Float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: Vector (1..10);      b : Vector (0..m);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procedure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sumList (sum: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out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nteger; lista: Vector)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for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i:=lista’firs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to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lista’last </a:t>
            </a: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do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...</a:t>
            </a:r>
            <a:br>
              <a:rPr sz="2400"/>
            </a:br>
            <a:r>
              <a:rPr b="0" lang="pt-BR" sz="2400" spc="-1" strike="noStrike">
                <a:solidFill>
                  <a:srgbClr val="99ff66"/>
                </a:solidFill>
                <a:latin typeface="Arial"/>
              </a:rPr>
              <a:t>end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List(s,a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umList(s,b);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ortran 90, C e C++: alocação e desalocação explícita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eap-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dinâm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3FD4-E2F2-49ED-B53A-5D76932F19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6T02:53:00Z</dcterms:created>
  <dc:creator>Prof. Giovanny Lucero</dc:creator>
  <dc:description/>
  <dc:language>en-US</dc:language>
  <cp:lastModifiedBy>Prof. Giovanny Lucero</cp:lastModifiedBy>
  <cp:lastPrinted>2001-01-12T18:41:34Z</cp:lastPrinted>
  <dcterms:modified xsi:type="dcterms:W3CDTF">2001-01-12T21:58:00Z</dcterms:modified>
  <cp:revision>155</cp:revision>
  <dc:subject/>
  <dc:title>Armazenamento</dc:title>
</cp:coreProperties>
</file>