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1352-7A05-4783-B308-B25D6D3B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em o uso do TAD ... As operações sempre tem valor(es)/variável(s) do TAD como argumento 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objeto to tipo directory é um argumento implícito da oper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L, estruturas são valores manipuladas por funtores. Estruturas podem ser tipadas por assinat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eja como pi é escondido na implemen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em que a representação do TAD é ocul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rque a parte privada está na interface? ... compilação separada! Porém poderia ter sido evitado introduzindo uma indire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748-B35F-4C26-B5B2-C14E41DF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5AD-2C84-415D-B893-F0654AE0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FC6-F284-4EBD-9238-50EA10B3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681-274D-455E-BC6C-05C0F24E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154D-B867-4519-A15D-A2CE9E49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7D18-E25C-45DB-9DDB-1BCFA51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242B-FF8F-4F0F-83B2-EF361F8D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FC18-A009-49D6-B176-41DEB47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81F2-928E-46C5-B914-AAB8C72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686-F1D5-4A92-BE76-E47BF93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7051-7315-4123-B5AC-6025418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716-7A05-4062-A0F4-91EA4653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4156-3AAD-4C38-9EBD-D6B033F7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421B-4A47-4AE0-9017-A06CF0D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177D-BE33-498F-BE72-51810B98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DD80-9450-44B6-839B-2519404E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E28B-F595-4410-8A2B-9E925B24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E59-CBEA-461C-BFBF-057E9ED9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39C-F23F-4C19-B468-006F820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692-AAA8-42FD-981B-A38360C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250-F6C1-4DC5-BDAB-4A03A8A3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0A5-5875-4B56-BCD1-9B737BC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CD1-3AC5-4607-B80A-996A668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A6B-FB51-4C7F-913D-1157631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737-52AA-426F-B06A-885955279C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430B-4515-4458-8D93-FB7340238E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ncapsulam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iovanny Luc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1840" y="1143000"/>
            <a:ext cx="782964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 bod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type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sert (dir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 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new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; new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aqui a implementação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ookup (dir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old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; old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found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oolean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aqui a implementação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typ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C85-45AC-4CE0-9B98-0F0E9BDA63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4280" y="1752480"/>
            <a:ext cx="760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u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type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permite abreviar a notação po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medir : Directo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orkdir : Directo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t(workdir, me, 604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t(homedir, me, 871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ookup(workdir, me, mynumber, ok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709-BEAF-4077-9B6E-2D44EC124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Ds em outras lingua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umas linguagens permitem definir T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construções próprias, por ex.SML e Haskell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ando módulos -- algumas linguagens permitem outras não (Units do turbo pascal?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AEB-7FF9-4961-BEF2-F7E1020E7A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o: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uma variável escondida com um grupo de operações visíveis que trabalham sobre esta vari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s as vantagens dos T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roduz um novo paradig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almente pacotes/módulos suportam objetos (Units de Pascal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934-667C-477C-8ED7-9DB8D652CD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m Objeto em 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objec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sert (new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w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)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ookup (old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ld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found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oolea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objec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7640" y="510552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ta: as operações não aceitam como parâmetro um 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ctory_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2CD-77F1-4050-9D34-C49454734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 bod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objec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Node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Pt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cces DirNode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Node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 reco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....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 reco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uma árv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ot : DirPtr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sert (new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w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adiciona na árvore cuja raiz é root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ookup (old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ld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found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oolean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busca na árvore cuja raiz é r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objec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D34-7001-4C5F-B6E2-4C13799A9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ctory_object.insert(me, 604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ctory_objetc.insert(myMother, 871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ctory_object.lookup(me, mynumber, o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8BE-5800-4159-87EA-20539A8512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lasses de Obje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e: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um "tipo" de objet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uma abstração de obje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Ada: usando pacotes gen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ódulos de outras linguagens em geral não suportam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Linguagens O.O. (Java, C++, smalltalk): há uma construção lingüística específica para definir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EF7-6783-41B2-A721-27C74388FF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ma classe em 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1040" y="1066680"/>
            <a:ext cx="566712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99ff66"/>
                </a:solidFill>
                <a:uFillTx/>
                <a:latin typeface="Arial"/>
              </a:rPr>
              <a:t>generic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class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idem interface de directory_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cla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 bod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class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idem corpo de directory_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cla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homedi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 ne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cla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workdi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 ne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cla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orkdir.insert(me,604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medir.insert(me, 871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orkdir.lookup(me,mynumber,o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CB7-3F0B-4693-912E-B02A289CDC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Baseadas ou Orientadas em/a O.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Baseada em Objetos: facilmente pode-se definir objetos (Modula2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ado em Classes: baseado em O. e também pode-se definir classes (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ientado a Objetos: Baseado em Classes + herança + vinculação dinâ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ct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Times New Roman"/>
              </a:rPr>
              <a:t>+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8040" y="2631960"/>
            <a:ext cx="29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Times New Roman"/>
              </a:rPr>
              <a:t>+ he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Times New Roman"/>
              </a:rPr>
              <a:t>+ vinculação dinâ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2" idx="2"/>
            <a:endCxn id="133" idx="2"/>
          </p:cNvCxnSpPr>
          <p:nvPr/>
        </p:nvCxnSpPr>
        <p:spPr>
          <a:xfrm flipH="1" rot="16200000">
            <a:off x="3617640" y="1219680"/>
            <a:ext cx="2520" cy="24390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3" idx="2"/>
            <a:endCxn id="134" idx="2"/>
          </p:cNvCxnSpPr>
          <p:nvPr/>
        </p:nvCxnSpPr>
        <p:spPr>
          <a:xfrm flipH="1" rot="16200000">
            <a:off x="5980680" y="1295640"/>
            <a:ext cx="2520" cy="22867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0A4-B0C6-4344-BEEA-E187947D86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ncapsulam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ção em grande esc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have da modularidade é abst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Qu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o propósito de um módulo? (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 que?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e chega no propósi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ão exige ocultamento (controle de visibilida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 mínimas para outros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e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ódulo: um grupo de declarações + encapsul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D: tipo definido indiretamente por suas ope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o: variável oculta + ope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e: (descrição de) um tipo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Generic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declarações parametriz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D25-430E-4606-874E-E4C4B3DFC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Genericid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abstração genérica (módulo genérico) é uma abstração sobre uma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 um corpo que é uma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 ser parametr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instância produz vínculos elaborando o co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arece de diversas formas nas lingua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a: pacotes genérico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generi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emplate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modelos) em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A52-C0BE-436E-9944-DCE1795547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m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template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 em C+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400" y="11426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empla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&lt;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la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la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iva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lemento[] elemen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am_ma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p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ubli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ilha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ize)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oi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sempilhar( )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oi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mpilhar(Elemento e)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lemento topo( )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azia( )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775-95FE-4F20-BB5B-62B5C9A88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47480" y="1905120"/>
            <a:ext cx="287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lha&lt;</a:t>
            </a:r>
            <a:r>
              <a:rPr b="0" lang="pt-BR" sz="2400" spc="-1" strike="noStrike" u="sng">
                <a:solidFill>
                  <a:srgbClr val="99ff66"/>
                </a:solidFill>
                <a:uFillTx/>
                <a:latin typeface="Times New Roman"/>
              </a:rPr>
              <a:t>int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&gt; pi(20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i.empilhar(1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lha&lt;Figura&gt; pf(15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Times New Roman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pf.vazia()) { ....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f.empilhar(..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B7D-1A65-4D54-A9E6-B7893241D0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m pacote genérico em 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generic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m_max : Positive 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parâmetro do genérico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iva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parâmet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sempilhar( )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ilhar(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)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po( 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azia( 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oole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EE2-5201-4207-A9EE-86D6EBE61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 bod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lementos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1.. tam_max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po : Intege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an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0..tam_ma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sempilhar(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implementação aqui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ilhar(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implementação aqui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po( 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le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implementação aqui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azia( 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r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oole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-- implementacão a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DE9-E5A4-4E86-B906-9CEC28D6BB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_calculadora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 (20, Floa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ransaction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 reco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...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 reco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_auditoria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ilha(300,Transactio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E73-1AC7-46FC-9A77-58DC79851D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Genericidade com outros mecanism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umas linguagens provém outros mecanismos poderosos para escrever código genérico que não se baseiam em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limorfismo paramét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limorfismo de he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 como argumentos de fun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550-B8C1-469F-AB05-468FF24F02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ntagens Encapsulam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pacotar representação e operações em unidades lógicas que podem ser compiladas separ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clientes não dependem da representação, a implementação pode ser modificada sem exigir mudanças nos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mento de confiablilidade: clientes não podem quebrar a integridade dos dados intencional ou acident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liente só precisa conhecer a parte pública (documentação reduzi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03D-3C0A-4F18-A40B-1322BAF30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ódulos (pacote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Módulo (pacote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grupo de componentes decla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unidade de encapsul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cotes em Ada e estruturas em ML agrupam qualquer vincul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struct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 =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D            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struct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                                     D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cotes em Java agrupam só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es em Java, C++, Eiffel, ... agrupam variáveis e méto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008-58CD-4ABB-9E7C-DFAB51A3B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ódulos com encapsulam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a e Modulas -- dividem o módulo em duas partes separadas: interface e cor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rig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in(x:Flo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s(x:Flo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ri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ntag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ilação separada da interface e do corpo. Para qu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liente/usuário do pacote só conhece a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8960" y="2278080"/>
            <a:ext cx="47509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 bod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rig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i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: constant Float := 3.1416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in(x:Flo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...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s(x:Flo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tur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...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643-292E-4F82-9729-8122381F1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utras alternativ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ódulos em S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lock declaration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loc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binado com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ermite criar módulos com encapsul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ML permite opcionalmente definir assinatu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 de uma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árias estruturas podem ter a mesma assin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ruct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ão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m-se definir fun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324-B15E-4C25-B67A-242BA7AAE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askell: explicitando listas de exportação e importação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ule P export list_id import list_id from M is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mitação na compilação separada (não há interfa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e C++: mecanismos de encapsulamento usando modificadores de visi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la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 {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iva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 int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ubli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oid f( ) {...}...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tecte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t g( )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;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; 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mpor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Q;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la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 {...}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//amig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ubli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lass A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21D-C8C5-4E3A-91F0-E75E22F2EE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Abstratos de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D: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um tipo definido por um grupo de ope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presentação dos dados é ocu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 Suponha que precisamos trabalhar com 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ational = (Int, I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tion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ode ser usado em contextos indesejados (onde se espera um ponto por exemp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m ser construídos valores sem sentido, ex: (2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iguais podem ser considerados diferentes, ex: (4,2) e (2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lução: esconder a representação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um T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as as vantagens do encapsul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olvem-se os três problemas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569-7B0F-4904-8463-920750B382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m TAD em 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440" y="1371600"/>
            <a:ext cx="761004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ackag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type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 u="sng">
                <a:solidFill>
                  <a:srgbClr val="99ff66"/>
                </a:solidFill>
                <a:uFillTx/>
                <a:latin typeface="Arial"/>
              </a:rPr>
              <a:t>limited priva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sert (dir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 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new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; new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ookup (dir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oldname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ame; oldnumber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umber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found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oolean)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Nod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cces DirNod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Node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 reco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....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 recor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irectory_typ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49A-95AE-4D75-91E0-0864B9ECC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01:11:10Z</dcterms:created>
  <dc:creator>Prof. Giovanny Lucero</dc:creator>
  <dc:description/>
  <dc:language>en-US</dc:language>
  <cp:lastModifiedBy>DEFAULT</cp:lastModifiedBy>
  <dcterms:modified xsi:type="dcterms:W3CDTF">2003-04-07T06:25:37Z</dcterms:modified>
  <cp:revision>175</cp:revision>
  <dc:subject/>
  <dc:title>Encapsulamento</dc:title>
</cp:coreProperties>
</file>