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</p:sldIdLst>
  <p:sldSz cx="9144000" cy="6858000"/>
  <p:notesSz cx="7102475" cy="9388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0023-099B-4FC5-956E-279ED523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3955-C562-490B-8CA6-C311BC24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8D64-4E2E-4704-B93E-F8A8D34D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39B-6ED4-4FF7-9D49-F06177180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0F4E-AC2F-4ADB-A9A1-1B047BE58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ECA0-AACA-428E-A4FD-7F80EB34F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5146-4E52-4400-B9E8-D7D5B1E0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2139-E9A1-49CA-A262-576A0175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82B1-66EC-490C-BCCD-59C04741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D3DF-A3D7-4D4D-96A1-9B8F2261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91A83-55CB-4790-87BF-98588598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5653-E4E7-43F4-9F5E-AD177908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F262-C789-4B63-ACD9-3345BB9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1D47-401D-4BA6-AC20-308655AB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CD63-A045-45E2-B172-1CB36E0D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D2F6-8117-405D-BDFA-3951DF19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EAE6-0B54-4E85-AF13-5D010DDD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6D30-4C12-4609-8AF3-AA30AFA4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1C08-FA05-432D-A281-BDA80041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970-0331-4A01-B1CD-98C9C436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667-3413-4033-926C-08D299A8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916-5267-479E-B3CB-3190B5B0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3B91-8FCB-483D-8B0B-8B5D746FA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3F6-CCE8-4436-B530-F36940E0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55EC-393A-4217-947E-E928A616E67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0CF2-FBB6-4205-B446-5DF16F5F73BF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Impac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Tahoma"/>
              </a:rPr>
              <a:t>Linguagens de Programação</a:t>
            </a:r>
            <a:endParaRPr b="0" lang="en-US" sz="43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30477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adigma de Programação Lóg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590544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5715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niversidade Federal de Sergi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ão Cristóvão - SE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ões - Exempl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7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&gt; é uma relação entre números, desde que para algum par de números x e y, x &gt; y seja verdadeiro ou falso.  Por convenção escrevemos ‘x&gt;y’, mas considerando a definição acima teremos &gt;(x,y).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7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utro exemplo simples é a relação ‘atravessa’, existente entre rios e locais. A relação ‘O Tietê atravessa o Brasil’ é verdadeira; já ‘O Mississipi atravessa Sergipe’ é fals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990720" y="2514600"/>
            <a:ext cx="81532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Tamanho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de l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length(Lista,Tamanho)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990720" y="3809880"/>
            <a:ext cx="8153280" cy="22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xempl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Qual o comprimento de uma dada list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?- length([9,4,3,2],T)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T = 4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90720" y="2590920"/>
            <a:ext cx="8153280" cy="32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Implementação de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relação similar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à </a:t>
            </a:r>
            <a:r>
              <a:rPr b="1" lang="pt-BR" sz="3200" spc="-1" strike="noStrike">
                <a:solidFill>
                  <a:srgbClr val="ffffff"/>
                </a:solidFill>
                <a:latin typeface="Courier New"/>
              </a:rPr>
              <a:t>length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tamanho([],0)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tamanho([Cabeca|Corpo],Tamanho):-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tamanho(Corpo,N),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3300" spc="-1" strike="noStrike">
                <a:solidFill>
                  <a:srgbClr val="ffffff"/>
                </a:solidFill>
                <a:latin typeface="Courier New"/>
              </a:rPr>
              <a:t>Tamanho is N+1.</a:t>
            </a:r>
            <a:endParaRPr b="0" lang="en-US" sz="3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9072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29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mplemente uma relação para identificar o menor dentre dois números dad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30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mplemente uma relação para identificar o menor dos elementos de uma dada lista.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31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mplemente a relação que efetua a soma dos elementos de uma lista dada.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990720" y="2666880"/>
            <a:ext cx="77724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REMOÇÃO DE ELE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Book Antiqua"/>
              </a:rPr>
              <a:t>remove(Elemento,ListaInicial,ListaFinal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Remove uma ocorrência do Elemento na ListaInicial originando ListaFi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90720" y="4800600"/>
            <a:ext cx="7924680" cy="20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1932"/>
                </a:solidFill>
                <a:latin typeface="Book Antiqua"/>
              </a:rPr>
              <a:t>removeall(Elemento,ListaInicial,ListaFinal)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Remove todas as ocorrências do Elemento na ListaInicial originando Lista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1760" y="418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990720" y="2743200"/>
            <a:ext cx="8153280" cy="35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1932"/>
                </a:solidFill>
                <a:latin typeface="Times New Roman"/>
              </a:rPr>
              <a:t>LISTA REVER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Book Antiqua"/>
              </a:rPr>
              <a:t>reverse(ListaInicial,ListaFinal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ListaFinal é composta pelos elementos de ListaInicial em ordem inversa à orig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1760" y="418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56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9072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32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mplemente uma relação para identificar o maior de todos os elementos de uma dada list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33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Implemente uma relação para calcular o produto dos elementos de uma dada lista.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34. </a:t>
            </a:r>
            <a:r>
              <a:rPr b="0" i="1" lang="en-US" sz="3000" spc="-1" strike="noStrike">
                <a:solidFill>
                  <a:srgbClr val="ffffff"/>
                </a:solidFill>
                <a:latin typeface="Times New Roman"/>
              </a:rPr>
              <a:t>Proponha e implemente duas operações úteis à manipulação dos dados mantidos em lista.</a:t>
            </a:r>
            <a:r>
              <a:rPr b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90720" y="2590920"/>
            <a:ext cx="8153280" cy="38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 linguagem Prolog possibilita o controle de programas através de instrumentos como o “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ut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” e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negação por falha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O “cut” destina-se a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prevenir a execução do backtracking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quando este não for desej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 negação por falha constitui-se uma forma operacional de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negação lógica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990720" y="2438280"/>
            <a:ext cx="815328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ara compreender os citados instrumentos de controle, faz-se necessário entender o processamento de programas Prol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Na execução dos programas Prolog, para controlar a busca por solução usa-se um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árvore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- árvore de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Na busca pela solução, a árvore é percorrida sistematicamente da raiz para as folhas, da esquerda para a direita - pesquisa em profundida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 - Árvores de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990720" y="2590920"/>
            <a:ext cx="815328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ara verificar a composição e varredura da árvore de pesquisa, consideremos o exempl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divertir(Pessoa) :- triste(Pes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divertir(Pessoa) :- ociosa(Pes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divertir(Pessoa) :- cansada(Pes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ociosa(Pessoa) :- agil(Pe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ociosa(Pessoa) :- negligente(Pe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negligente(Pessoa) :- orgulhosa(Pe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negligente(Pessoa) :- egoista(Pe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negligente(Pessoa) :- vaidosa(Pesso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cansada(maria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 - Árvores de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Relações -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s relações trabalhadas até então são denominadas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binária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porque referem-se a pares de valor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Mas, há relações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unária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: R(x),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ternária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: R(x,y,z) e assim por diante.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omo exemplo de relação unária podemos citar a relação que define o sexo de uma pessoa: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masculino(joao)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e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feminino(rute)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990720" y="25909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 árvore de pesquisa correspondente à relação </a:t>
            </a:r>
            <a:r>
              <a:rPr b="1" i="1" lang="en-US" sz="2400" spc="-1" strike="noStrike">
                <a:solidFill>
                  <a:srgbClr val="001932"/>
                </a:solidFill>
                <a:latin typeface="Times New Roman"/>
              </a:rPr>
              <a:t>divertir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é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 - Árvores de Pesqui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1981080" y="3048120"/>
          <a:ext cx="5562720" cy="34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048120"/>
                    <a:ext cx="5562720" cy="34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990720" y="2590920"/>
            <a:ext cx="81532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O programa em estudo terá êxito somente quando o nó </a:t>
            </a:r>
            <a:r>
              <a:rPr b="1" lang="pt-BR" sz="2800" spc="-1" strike="noStrike">
                <a:solidFill>
                  <a:srgbClr val="ffffff"/>
                </a:solidFill>
                <a:latin typeface="Book Antiqua"/>
              </a:rPr>
              <a:t>cansada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for atingido, uma vez que é o único fato declarado nes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Quando um objetivo falha em um nó terminal da árvore de pesquisa, o sistema Prolog aciona o mecanismo de backtracking, retornando pelo mesmo caminho percorrido, na tentativa de encontrar soluções alternativas. 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Backtrank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Analise o programa dado abaixo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joao,jazz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joao,renata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joao,lasanha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renata,joao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renata,lasanha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35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Descreva os passos da execução da consulta: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joao,X), gosta(renata,X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990720" y="2590920"/>
            <a:ext cx="815328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operador “cut”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permite declarar ramificações da árvores de pesquisa que não devem ser retomadas no backtrack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odemos justificar o uso do operador cut por duas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razões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incipais: (1) eliminar soluções alternativas quando uma só é suficiente e (2) encerrar a pesquisa quando a continuação iria conduzir a uma pesquisa infini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Operador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990720" y="2362320"/>
            <a:ext cx="8153280" cy="41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intaticamente 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operador “cut”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tem a aparência de um objetivo sem nenhum argumento, representado por um ponto de exclamaçã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ituação problema, função: (1) se x &lt; 3, y = 0, (2) se 3&lt;=x&lt;6, y =2 e se x&gt;=6, y = 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m Prolo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0)  :- X &lt; 3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2) :- 3 =&lt; X, X &lt; 6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4) :- 6 =&lt; X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Operador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990720" y="2362320"/>
            <a:ext cx="8153280" cy="38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2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m Prolo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0)  :- X &lt; 3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2) :- 3 =&lt; X, X &lt; 6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4) :- 6 =&lt; X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Experiência 1: </a:t>
            </a:r>
            <a:r>
              <a:rPr b="0" lang="pt-BR" sz="3000" spc="-1" strike="noStrike">
                <a:solidFill>
                  <a:srgbClr val="ffffff"/>
                </a:solidFill>
                <a:latin typeface="Book Antiqua"/>
              </a:rPr>
              <a:t>?-f(1,Y), 2 &lt; Y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Para responder esta questão, o Prolog percorre, desnecessariamente, toda a árvore de pesquis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Operador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990720" y="2362320"/>
            <a:ext cx="81532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Para resolver este inconveniente, usamos “cut”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0)  :- X &lt; 3, !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2) :- 3 =&lt; X, X &lt; 6, !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f(X,4) :- 6 =&lt; X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O “cut” é inserido entre os objetivos, como uma espécie de pseudo-objetivo que sempre é bem sucedido na direção top-down, mas que sempre falha quando atingido pelo backtracking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Operador C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36. 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Escrever, sem usar “cut”, relação para identificar o maior de dois números dados.  Analisar o comportamento desta e verificar se é necessário o uso do citado operador.  Justifica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37. 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Escrever, sem usar “cut”, relação 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membro(X, L)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 para identificar se X pertence a lista L.  Analisar o comportamento desta e verificar se é necessário o uso do referido operador.  Justifica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990720" y="2362320"/>
            <a:ext cx="8153280" cy="39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Larissa gosta de todas os professores, exceto das tias”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Em Prolog pode ser escrito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larissa,X)  :- tia(X), !, fai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gosta(larissa,X)  :- professor(X)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A primeira regra se encarrega das tias.  Se X é tia, então o cut evita o backtracking excluindo a segunda regra e o</a:t>
            </a:r>
            <a:r>
              <a:rPr b="1" i="1" lang="pt-BR" sz="3000" spc="-1" strike="noStrike">
                <a:solidFill>
                  <a:srgbClr val="001932"/>
                </a:solidFill>
                <a:latin typeface="Times New Roman"/>
              </a:rPr>
              <a:t> fail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 ocasiona a falh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trole - Negação por Fal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38. 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Escrever relação para classificar um número dado qualquer em: positivo, nulo ou negativo.  Implementar da forma mais eficiente possíve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39. 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Implementar a função: se x = 17, f(x)=17, senão f(x)=2x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40. </a:t>
            </a:r>
            <a:r>
              <a:rPr b="0" i="1" lang="pt-BR" sz="2600" spc="-1" strike="noStrike">
                <a:solidFill>
                  <a:srgbClr val="ffffff"/>
                </a:solidFill>
                <a:latin typeface="Times New Roman"/>
              </a:rPr>
              <a:t>Responda: Havendo possibilidade/necessidade de dar continuidade ao estudo da linguagem Prolog, que outros recursos julga ser indispensável aprender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ões - Tipo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0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o exemplo de relação ternária podemos considerar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soma(x,y,z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Esta é verdadeira se z = x + 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0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e que podemos definir uma relação fazendo uso de outras.  Por exemplo, a relação soma faz uso da relação de igualdade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en-US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en-US" sz="2400" spc="-1" strike="noStrike">
                <a:solidFill>
                  <a:srgbClr val="001932"/>
                </a:solidFill>
                <a:latin typeface="Tahoma"/>
              </a:rPr>
              <a:t>B I B L I O G R A F I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218960" y="2286000"/>
            <a:ext cx="754380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1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ALAZZO, Luis A. M.,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Introdução à Programação Prolog,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Editora da Universidade Católica de Pelotas, Pelotas, 1997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80880" indent="0" algn="just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>
              <a:lnSpc>
                <a:spcPct val="11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WATT, David A.,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Programming Language Concepts and Paradigms, </a:t>
            </a: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Prentice Hall, 1990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2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2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te uma relação: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a) uná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b) binária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) ternária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elação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32"/>
                </a:solidFill>
                <a:latin typeface="Times New Roman"/>
              </a:rPr>
              <a:t>Consulta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ssamento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ctr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Consultas - Introduçã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76920" algn="just">
              <a:lnSpc>
                <a:spcPct val="8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ados dois conjuntos não vazios A e B, uma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funçã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e A em B é uma relação que a cada elemento x de A faz corresponder um único elemento y de B. 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76920" algn="just">
              <a:lnSpc>
                <a:spcPct val="8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ssim, nas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funçõ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ssociamos muitos elementos de A com um único elemento de B - associação d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muitos para um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76920" algn="just">
              <a:lnSpc>
                <a:spcPct val="8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as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relaçõ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associamos muitos elementos de A com muitos elementos de B - associação d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muitos para muit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ultas - Paradigm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76920" indent="-37692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gramação funcion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e na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imperativ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s programas são essencialmente implementados   sobre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ssociações de muitos para um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76920" indent="-37692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ult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podem ser expressa: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ado a, determine o valor de f(a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Onde na imperativa f(a) é a saída referente à entrada a e na funcional é o resultado da função f aplicada sobre o argumento 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Consultas - Paradigma Lógic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programação lógic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os programas são essencialmente implementados sobre relações -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associações de muitos para muit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sta, as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consulta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podem ser: 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(1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ados a e b, determine se R(a,b) é verdadeira;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(2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ado a, determine todos os y tal que R(a, y) seja verdadeira;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(3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ado b, determinar todos os x tal que R(x,b) seja verdadeira 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(4)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eterminar todos x e y tal que R(x,y) seja verdadeira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ultas - Paradigma Lóg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 consulta - (1) dados a e b, determine se R(a,b) é verdadeira - terá uma únic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sposta SIM ou NÃ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consultas - (2) dado a, determine todos os y tal que R(a, y) seja verdadeira; (3) dado b, determinar todos os x tal que R(x,b) seja verdadeira - demonstram que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não há distinção entre entradas e saíd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ultas - Paradigma Lóg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consultas - (2) dado a, determine todos os y tal que R(a, y) seja verdadeira; (3) dado b, determinar todos os x tal que R(x,b) seja verdadeira - caracterizam a programação lógica e explicam porque esta trabalha potencialmente em mai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lto níve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que as programações imperativa e funcional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ccffff"/>
                </a:solidFill>
                <a:latin typeface="Tahoma"/>
              </a:rPr>
              <a:t>Linguagens de Programação</a:t>
            </a:r>
            <a:endParaRPr b="0" lang="en-US" sz="43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3047760"/>
            <a:ext cx="8686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Paradigma de Programação Lóg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5905440"/>
            <a:ext cx="397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419720"/>
            <a:ext cx="8686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Lucida Handwriting"/>
              </a:rPr>
              <a:t>Kenia Kodel Co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571500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Universidade Federal de Sergip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ão Cristóvão - SE,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3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ite consultas a serem realizadas sobre cada uma das relações propostas em resposta ao exercício 2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bservação:  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s respostas, é indispensável contemplar os quatro modelos de consultas estudado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Relação 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nsulta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32"/>
                </a:solidFill>
                <a:latin typeface="Times New Roman"/>
              </a:rPr>
              <a:t>Processamento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cessament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m programa lógico o processamento consiste e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testar (assertivas) afirmaçõ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e pudermos inferir das cláusulas de um programa que uma dada assertiva A é verdadeira, dizemos que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 teve êxit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  Se não pudermos inferir que A é verdadeiro, então dizemos qu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A falhou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- o que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não significa que A é definitivamente fals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cessament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3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a testar uma consulta (assertiva) C na programação lógica, tem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62120" algn="just">
              <a:lnSpc>
                <a:spcPct val="13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e o programa contém um fato F (verdadeiro) tal que F corresponde (confirma) a consulta C, então imediatamente concluímos que C sucede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Processame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2960" indent="-372960" algn="just">
              <a:lnSpc>
                <a:spcPct val="100000"/>
              </a:lnSpc>
              <a:spcBef>
                <a:spcPts val="1749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(Continua)  Para testar uma assertiva C na programação lógica, temos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746640" algn="just">
              <a:lnSpc>
                <a:spcPct val="100000"/>
              </a:lnSpc>
              <a:spcBef>
                <a:spcPts val="1500"/>
              </a:spcBef>
              <a:buClr>
                <a:srgbClr val="001932"/>
              </a:buClr>
              <a:buFont typeface="Monotype Sort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Se o programa contém uma cláusula F verdadeira somente se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e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e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...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forem verdadeiras e F corresponde (confirma) a consulta C, então devemos testar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e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e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...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separadamente.  Se todas sucederem então concluímos que C sucede.  Se uma das subcláusulas F</a:t>
            </a:r>
            <a:r>
              <a:rPr b="0" i="1" lang="pt-BR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 falhar então devemos tentar usar outra cláusula no lugar desta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ccffff"/>
                </a:solidFill>
                <a:latin typeface="Tahoma"/>
              </a:rPr>
              <a:t>P </a:t>
            </a: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cessament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3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(Continua)  Para testar uma assertiva C na programação lógica, temos: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762120" algn="just">
              <a:lnSpc>
                <a:spcPct val="13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omente quando tivermos esgotado todas as cláusulas componentes de F, correspondente a C é que podemos concluir que C falhou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R O T E I R O   D E   E S T U D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aradigmas de Programação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gramação Lógica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32"/>
                </a:solidFill>
                <a:latin typeface="Times New Roman"/>
              </a:rPr>
              <a:t>Linguagem Prolo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3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Históric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 linguagem Prolog foi projetada na década de 70 e, inicialmente, consistia numa ferramenta de inteligência artificial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omente em 1981 passou a ser considerada uma linguagem de programação quando usada para implementar máquinas de inferência lógic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Programa Prolog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5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R O T E I R O   D E   E S T U D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 algn="just">
              <a:lnSpc>
                <a:spcPct val="190000"/>
              </a:lnSpc>
              <a:spcBef>
                <a:spcPts val="250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1932"/>
                </a:solidFill>
                <a:latin typeface="Times New Roman"/>
              </a:rPr>
              <a:t>Paradigmas de Programação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72960" indent="-372960" algn="just">
              <a:lnSpc>
                <a:spcPct val="190000"/>
              </a:lnSpc>
              <a:spcBef>
                <a:spcPts val="250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imes New Roman"/>
              </a:rPr>
              <a:t>Programação Lógica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  <a:p>
            <a:pPr marL="372960" indent="-372960" algn="just">
              <a:lnSpc>
                <a:spcPct val="190000"/>
              </a:lnSpc>
              <a:spcBef>
                <a:spcPts val="250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000" spc="-1" strike="noStrike">
                <a:solidFill>
                  <a:srgbClr val="ffffff"/>
                </a:solidFill>
                <a:latin typeface="Times New Roman"/>
              </a:rPr>
              <a:t>Linguagem Prolog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22856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grama Prolog</a:t>
            </a:r>
            <a:endParaRPr b="0" lang="en-US" sz="32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90720" y="289512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42720" algn="just"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u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lgoritm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qualquer identificamos dois principais componentes: (1)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ógic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- o que solucionar (problema) e (2)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trole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- como solucionar (solução)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48769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gramação em lógic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 programador deve descrever somente o componente lógico, o controle e exercido pelo sistema usa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720" y="281916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35520" algn="just"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 programa Prolog não é a descrição de um procedimento para se obter a solução do problema,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somente descreve o que solucionar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4800600"/>
            <a:ext cx="8153280" cy="17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sponsável pelo procediment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a ser adotado na execução da solução é o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sistem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usado no processamento dos program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Programa 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538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laúsul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Fatos - Regra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538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8153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42720" algn="just"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 programa em lógica (programação declarativa) é a representação de determinado problema através de um conjunto finito de sentenças lógicas denominada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láusul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53341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cláusulas componentes dos programas em PROLOG podem ser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fato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u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gr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761760" y="418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láusulas - Fatos - Reg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90720" y="2742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39120" algn="just"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láusul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são as sentenças lógicas componentes dos program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39625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fat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denota uma verdade incondicio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90720" y="4800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gra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definem as condições a serem satisfeitas para que uma certa declaração seja considerada verdadei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láusulas - Fatos - Regr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1932"/>
                </a:solidFill>
                <a:latin typeface="Times New Roman"/>
              </a:rPr>
              <a:t>Mapeando Soluções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90720" y="259056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42720" algn="just">
              <a:spcBef>
                <a:spcPts val="799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A programação em lógica reforça a tese de que a lógica é um formalismo conveniente para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 representar (mapear) e processar conhecimento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4572000"/>
            <a:ext cx="8077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ara tanto faz-se necessário identificar nos problemas os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bjetos (entidades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e 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ã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entre estes compondo o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fatos (verdades incondicionais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Mapeamento de Solu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990720" y="2438280"/>
          <a:ext cx="815328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438280"/>
                    <a:ext cx="8153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90720" y="5410080"/>
            <a:ext cx="784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O organograma dado acima mapeia a hierarquia dos componentes funcionais da empresa ‘Prolog Ltda’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Mapeamento de Solu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51200" y="24375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ção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5562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este identificamos: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objetos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funções ou cargos) 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relaçõe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chefia ou superioridade hierárquica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Mapeamento de Solu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27520" y="24375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ção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219320" y="2438280"/>
          <a:ext cx="777240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Objetos e Relações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A R A D I G M A S   D E   P R O G R A M A Ç Ã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 algn="just">
              <a:lnSpc>
                <a:spcPct val="10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U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gram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implementa “mapeamentos” de soluções computacionai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72960" indent="-372960" algn="just">
              <a:lnSpc>
                <a:spcPct val="10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nguagem imperativ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 mapeamento é efetuado através de entradas e saídas; sendo estas últimas dependentes das primeira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72960" indent="-372960" algn="just">
              <a:lnSpc>
                <a:spcPct val="10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m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nguagem funcional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o mapeamento é efetuado através de funçõ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990720" y="52578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Neste tem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hefia(diretor,depto1).  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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c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áusula e f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bjetos do problema e argumentos da cláusu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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l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bjetos e Rel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127520" y="24375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ção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219320" y="24382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990720" y="5257800"/>
            <a:ext cx="3581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chefia(diretor,depto1)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chefia(divisaob,setorb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chefia(depto2,divisaoc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bjetos e Rel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27520" y="24375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ção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219320" y="24382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876920" y="52560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emos três cláusulas que denotam três fatos acerca da relação chef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000" spc="-1" strike="noStrike">
                <a:solidFill>
                  <a:srgbClr val="001932"/>
                </a:solidFill>
                <a:latin typeface="Times New Roman"/>
              </a:rPr>
              <a:t>Compilador Prolog</a:t>
            </a:r>
            <a:endParaRPr b="0" lang="en-US" sz="30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55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mpilador LPA Win-Prolo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243828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65400" indent="-328680" algn="just">
              <a:lnSpc>
                <a:spcPct val="11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ara estudo da linguagem Prolog faremos uso d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compilador LPA Win-Prolog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, versão 3.3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28680" algn="just">
              <a:lnSpc>
                <a:spcPct val="11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ste foi desenvolvido pel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Logic Programming Associates Ltd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, em 199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28680" algn="just">
              <a:lnSpc>
                <a:spcPct val="11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Onde identificamos: (1) projetos constituídos pelos programas -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coleção de relaçõe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e (2) modo de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consulta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- a partir da qual os projetos são executados e testa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rolog1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619760" cy="540216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614960" y="5988960"/>
            <a:ext cx="68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Tela inicial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da ferramenta.  Modo de consul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rolog2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696080" cy="53607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2556000" y="5988960"/>
            <a:ext cx="50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cesso aos projetos (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programa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rolog3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543800" cy="5275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09440" y="5988960"/>
            <a:ext cx="809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Exemplo de programa.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Útil para o cálculo de fato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rolog4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7620120" cy="5418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990720" y="57672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peração d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compilaçã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  Necessária à execução de testes, e execução, do(s) projeto(s) ativ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rolog5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696080" cy="54370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990720" y="577656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xemplo de teste,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consult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execução, do programa de cálculo de fatorial, previamente compil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90720" y="510552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1932"/>
                </a:solidFill>
                <a:latin typeface="Times New Roman"/>
              </a:rPr>
              <a:t>4.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Usando o compilador LPA Win-Prolog implementar o organograma dado, através de cláusulas fatos da relação chef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27520" y="2437560"/>
            <a:ext cx="30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ção Probl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219320" y="2438280"/>
          <a:ext cx="777240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en-US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en-US" sz="2400" spc="-1" strike="noStrike">
                <a:solidFill>
                  <a:srgbClr val="001932"/>
                </a:solidFill>
                <a:latin typeface="Tahoma"/>
              </a:rPr>
              <a:t>P A R A D I G M A S   D E   P R O G R A M A Ç Ã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ogramação lógica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um programa implementa o mapeamento através de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ões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mo as entradas e saídas (da imperativa) e as funções (da funcional) são relações específicas, dizemos que o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aradigma lógic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constitui o mais alto (genérico) nível de mapeamento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sultas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540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ul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2520000"/>
            <a:ext cx="8153280" cy="38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Sendo cláusulas submetidas a um sistema Prolog, este é capaz de responder questões -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sultas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- sobre essas relaçõ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s consultas são denotadas por </a:t>
            </a:r>
            <a:r>
              <a:rPr b="1" lang="pt-BR" sz="3200" spc="-1" strike="noStrike">
                <a:solidFill>
                  <a:srgbClr val="001932"/>
                </a:solidFill>
                <a:latin typeface="Book Antiqua"/>
              </a:rPr>
              <a:t>?-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Para questionar se Divisão C é chefia de Setor C2, teríam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?- chefia(divisaoc,setorc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1932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1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stan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990720" y="2564280"/>
            <a:ext cx="8153280" cy="37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Considerando que há no programa um fato que declara que a Divisão C é chefia do Setor C2, o sistema respond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?- chefia(divisaoc,setorc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Importante notar que as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constante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, em Prolog, são escritas com letras minúscul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981080"/>
            <a:ext cx="8153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3126240"/>
            <a:ext cx="815328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5.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aborar quatros distintas consultas relativas ao programa em estudo (com cláusulas fatos sobre a relação chefia), cujas respostas sejam duas negativas e duas posit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981080"/>
            <a:ext cx="8153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2686320"/>
            <a:ext cx="815328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É possível formular consultas contendo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variávei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dentre os argumen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stas são denotadas por letras maiúscul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Neste caso o sistema busca os valores que tornem a assertiva dada verdadei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?- chefia(divisaoa,Subordinado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Subordinado = setora1;</a:t>
            </a:r>
            <a:r>
              <a:rPr b="1" lang="pt-BR" sz="2800" spc="-1" strike="noStrike">
                <a:solidFill>
                  <a:srgbClr val="001932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2" name=""/>
          <p:cNvSpPr/>
          <p:nvPr/>
        </p:nvSpPr>
        <p:spPr>
          <a:xfrm>
            <a:off x="990720" y="2133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90720" y="2651400"/>
            <a:ext cx="8153280" cy="37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Respondendo à consulta, o sistema fornece o primeiro valor e aguard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o pressionamento de ‘;’ para continuar a pesquis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?- chefia(divisaoa,Subordinad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bordinado = setora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bordinado = setora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?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mportante atentar para a necessidade de usar nomes significativos para as variáveis. 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5" name=""/>
          <p:cNvSpPr/>
          <p:nvPr/>
        </p:nvSpPr>
        <p:spPr>
          <a:xfrm>
            <a:off x="990720" y="2133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Vari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90720" y="25146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57840" indent="-32184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Variáveis ProLog são cadeias de letras, dígitos ou caracter sublinhado _, devendo iniciar com este ou letras maiúscu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8862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 caracter _ sozinho representa um variável anônima, ou seja, sem significado para determinado procediment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5410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 escopo léxico das variáveis é apenas uma cláus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0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1932"/>
                </a:solidFill>
                <a:latin typeface="Times New Roman"/>
              </a:rPr>
              <a:t>Exercíc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2944080"/>
            <a:ext cx="81532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6.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Elaborar consulta através da qual seja identificado o chefe imediato do Setor B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1932"/>
                </a:solidFill>
                <a:latin typeface="Times New Roman"/>
              </a:rPr>
              <a:t>7. 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Dada a cláusula: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chefia(Chefe, Subordinado)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, responda: a que consulta (questão) correspon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69360" indent="0">
              <a:lnSpc>
                <a:spcPct val="6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Múltiplas Chamada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4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en-US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en-US" sz="2400" spc="-1" strike="noStrike">
                <a:solidFill>
                  <a:srgbClr val="001932"/>
                </a:solidFill>
                <a:latin typeface="Tahoma"/>
              </a:rPr>
              <a:t>P A R A D I G M A S   D E   P R O G R A M A Ç Ã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2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1.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Proponha uma situação problema e cite os elementos de mapeamento da solução desta conforme a programação: (a) imperativa, (b) funcional e (c) lógica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6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Múltiplas Chama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90720" y="2405520"/>
            <a:ext cx="815328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É possível elaborar consultas usand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múltiplas chamada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à(s) relação(ões) trabalhada(s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?- chefia(Superior,Chef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                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chefia(Chefe,setora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Como resposta obtém-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?- chefia(Superior,Chef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chefia(Chefe,setora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perior = depto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Chefe = divisao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?-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09" name=""/>
          <p:cNvSpPr/>
          <p:nvPr/>
        </p:nvSpPr>
        <p:spPr>
          <a:xfrm>
            <a:off x="990720" y="21337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1932"/>
                </a:solidFill>
                <a:latin typeface="Times New Roman"/>
              </a:rPr>
              <a:t>Exercíc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90720" y="2945520"/>
            <a:ext cx="815328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8.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Elaborar consulta através da qual sejam identificados os subordinados do Depto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1932"/>
                </a:solidFill>
                <a:latin typeface="Times New Roman"/>
              </a:rPr>
              <a:t>9. </a:t>
            </a: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Elaborar consulta através da qual seja identificado o chefe de dois empregados de mesmo níve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1932"/>
                </a:solidFill>
                <a:latin typeface="Times New Roman"/>
              </a:rPr>
              <a:t>Definição de Relações - Regra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32280" algn="just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 definição de relações, em ProLog, pode ser efetuada pelo estabelecimento de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tuplas de objeto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que as satisfazem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562720"/>
            <a:ext cx="81532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s argumentos das relações podem ser objetos concretos -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átom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ou objetos genéricos -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variávei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efinição de Rel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990720" y="3733920"/>
            <a:ext cx="81532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Havendo a necessidade de definição da relação subordinado, por exemplo, poderíamos t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bordinado(setorb1,divisaob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bordinado(setora1,divisaoa).         . .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990720" y="3962520"/>
            <a:ext cx="81532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32280" algn="just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A relação subordinado é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binária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pois é definida entre dois objetos.  Dizemos também que a aridade da relação é dois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0" name=""/>
          <p:cNvSpPr/>
          <p:nvPr/>
        </p:nvSpPr>
        <p:spPr>
          <a:xfrm>
            <a:off x="990720" y="5105520"/>
            <a:ext cx="8153280" cy="15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Um exemplo de relaçã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unária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é a que define se o cargo é gratificado ou voluntári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gratificado(diretor).   gratificado(depto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Book Antiqua"/>
              </a:rPr>
              <a:t>voluntario(setorc1).   voluntario(setora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2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efinição de Rel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2362320"/>
            <a:ext cx="81532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Não há limite para o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número de argumento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aridade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 de uma relação.  Conforme este critério, as relações podem ser binárias, unárias, ternárias e out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81532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32280" algn="just">
              <a:lnSpc>
                <a:spcPct val="9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ntretanto, é possível definir relações por meio d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regra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5" name=""/>
          <p:cNvSpPr/>
          <p:nvPr/>
        </p:nvSpPr>
        <p:spPr>
          <a:xfrm>
            <a:off x="990720" y="4952880"/>
            <a:ext cx="815328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ferente dos fatos, que são incondicionalmente verdadeiros; as regras especificam algo que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pode ser verdadeiro se algumas condições forem satisfeitas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2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efinição de Rel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90720" y="3276720"/>
            <a:ext cx="8153280" cy="16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 regra para definição da relação subordinado, por exemplo, pode se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subordinado(Subordinado,Chefe) 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pt-BR" sz="2400" spc="-1" strike="noStrike">
                <a:solidFill>
                  <a:srgbClr val="001932"/>
                </a:solidFill>
                <a:latin typeface="Book Antiqua"/>
              </a:rPr>
              <a:t>chefia(Chefe,Subordinad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j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990720" y="4495680"/>
            <a:ext cx="8153280" cy="15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m Prolog a conjunção é denotada por vírgul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Nas condições também podemos usar operadores relacionais, como: ==, @&lt;, @&gt;, @&lt;= e @&gt;=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Conj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362320"/>
            <a:ext cx="8153280" cy="20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ra definir a relação superior podemos fazer uso de uma regra com conjunçõ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superior(Superior,Subordinado)   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chefia (Superior,Chef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just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1932"/>
                </a:solidFill>
                <a:latin typeface="Book Antiqua"/>
              </a:rPr>
              <a:t>chefia(Chefe,Subordinad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6" name=""/>
          <p:cNvGraphicFramePr/>
          <p:nvPr/>
        </p:nvGraphicFramePr>
        <p:xfrm>
          <a:off x="990720" y="2133720"/>
          <a:ext cx="36939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6939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4648320" y="1981080"/>
            <a:ext cx="44956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0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screver programa  que implemente a relação progenitor presente na árvore genealógica dada, usando clausulas fa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990720" y="2133720"/>
          <a:ext cx="36939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6939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4648320" y="2666880"/>
            <a:ext cx="4495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11. 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laborar consulta para definir o progenitor de: (a) Gil e (b) Z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R O T E I R O   D E   E S T U D O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Paradigmas de Programação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400" spc="-1" strike="noStrike">
                <a:solidFill>
                  <a:srgbClr val="001932"/>
                </a:solidFill>
                <a:latin typeface="Times New Roman"/>
              </a:rPr>
              <a:t>Programação Lógica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6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ffffff"/>
                </a:solidFill>
                <a:latin typeface="Times New Roman"/>
              </a:rPr>
              <a:t>Linguagem Prolog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990720" y="2133720"/>
          <a:ext cx="36939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6939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4648320" y="2666880"/>
            <a:ext cx="4495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12. 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Elaborar consulta para definir os filhos de: (a) Jô e (b) Lip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"/>
          <p:cNvGraphicFramePr/>
          <p:nvPr/>
        </p:nvGraphicFramePr>
        <p:xfrm>
          <a:off x="990720" y="2133720"/>
          <a:ext cx="36939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6939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0" name=""/>
          <p:cNvSpPr/>
          <p:nvPr/>
        </p:nvSpPr>
        <p:spPr>
          <a:xfrm>
            <a:off x="4648320" y="2666880"/>
            <a:ext cx="449568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3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Elaborar consulta para definir: (a) avô(ó), (b) neto(a) e (c) irmão(ã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2" name=""/>
          <p:cNvGraphicFramePr/>
          <p:nvPr/>
        </p:nvGraphicFramePr>
        <p:xfrm>
          <a:off x="990720" y="2133720"/>
          <a:ext cx="3693960" cy="40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133720"/>
                    <a:ext cx="3693960" cy="40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4648320" y="1981080"/>
            <a:ext cx="44956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4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finir as relações através de regras: (a) filho, (b) avó, (c) irmã e (d) prim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8" name=""/>
          <p:cNvSpPr/>
          <p:nvPr/>
        </p:nvSpPr>
        <p:spPr>
          <a:xfrm>
            <a:off x="4343400" y="2212920"/>
            <a:ext cx="41911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Indentação - Comentá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990720" y="2666880"/>
            <a:ext cx="8153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285840" algn="just"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mportante observar que 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indentação</a:t>
            </a: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oduz programas fáceis de serem lido, o que é recomendável para facilitar a manutenção des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mae(Mae, Filho):-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progenitor(Mae, Filho)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100" spc="-1" strike="noStrike">
                <a:solidFill>
                  <a:srgbClr val="ffffff"/>
                </a:solidFill>
                <a:latin typeface="Courier New"/>
              </a:rPr>
              <a:t>feminino(Mae)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indent="285840">
              <a:lnSpc>
                <a:spcPct val="9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Também são usados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comentário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, ignorados pelo sistema, mas indispensáveis no processo de manutenção.  Esses são identificados por %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61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Indentação - Comentá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4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cursividad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990720" y="2514600"/>
            <a:ext cx="815328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6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Quando definimos superi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uperior(Superior,Subordinado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efia(Superior, Chefe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efia(Chefe, Subordinado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4267080"/>
            <a:ext cx="815328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1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o efetuarmos a consulta percebemos que, por exemplo, Diretor não é identificado como superior a Setor B1.  Para resolvermos este inconveniente, usamos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recursividade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curs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90720" y="2514600"/>
            <a:ext cx="8153280" cy="11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9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ior direto - Chefia imedia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Chefe,Subordinado):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Chefe,Subordinado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3657600"/>
            <a:ext cx="8153280" cy="12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ior indir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Superior,Chefe1):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Superior,Chefe2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Chefia2,Chefe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90720" y="4952880"/>
            <a:ext cx="815328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80000"/>
              </a:lnSpc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i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Superior,Chefe1):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Superior,Chefe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Superior,Chefe2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Chefe2,Chefe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cursivida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76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isj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266688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90720" y="2590920"/>
            <a:ext cx="8153280" cy="31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ara definição da relação superior, foi usada a disjunção - ou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uperior(Superior,Chefe1):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efia(Superior,Chefe1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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disjun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chefia(Superior,Chefe2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uperior(Chefe2,Chefe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990720" y="5867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 disjunção é representada por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ponto e vírgula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1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Disjun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1932"/>
                </a:solidFill>
                <a:latin typeface="Times New Roman"/>
              </a:rPr>
              <a:t>Relação 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Consultas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80000"/>
              </a:lnSpc>
              <a:spcBef>
                <a:spcPts val="2750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Processamento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edi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990720" y="2438280"/>
            <a:ext cx="8153280" cy="43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1749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erio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Superior,Chefe1):-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Superior,Chefe1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hefia(Superior,Chefe2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uperior(Chefe2,Chefe1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5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  conjunto completo de cláusulas (fatos e regras) empregados para descrever uma relação, é denominado</a:t>
            </a:r>
            <a:r>
              <a:rPr b="0" i="1" lang="en-US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predicad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90720" y="418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Predi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5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finir, para a árvore genealógica, as relações (a) antecedentes e (b) descendentes através de reg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932"/>
                </a:solidFill>
                <a:latin typeface="Times New Roman"/>
              </a:rPr>
              <a:t>16. 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Definir, para o organograma empresarial, as relações (a) subordinados e (b) ‘empregados de mesma hierarquia’ através de regr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17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opor e descrever uma situação problema cuja solução possa ser implementada através de um programa Prolo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18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Considerando a situação proposta em resposta à questão anterior, descreva: (a) três consultas e (b) três regr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19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mplementar os elementos descritos em resposta às duas questões anterio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4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ritmétic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81532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3552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 ProLog é usada em geral para  computação simbólica, onde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a necessidade de cálculos é modesta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  Assim o instrumental destinado à computação numérica desta é simples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4648320"/>
            <a:ext cx="815328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spcBef>
                <a:spcPts val="2001"/>
              </a:spcBef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A ordenação da execução de operações aritméticas é efetuada pelo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operador </a:t>
            </a:r>
            <a:r>
              <a:rPr b="1" lang="pt-BR" sz="3200" spc="-1" strike="noStrike">
                <a:solidFill>
                  <a:srgbClr val="001932"/>
                </a:solidFill>
                <a:latin typeface="Courier New"/>
              </a:rPr>
              <a:t>is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500" spc="-1" strike="noStrike">
                <a:solidFill>
                  <a:srgbClr val="001932"/>
                </a:solidFill>
                <a:latin typeface="Book Antiqua"/>
              </a:rPr>
              <a:t>?- X is 1 + 2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1932"/>
                </a:solidFill>
                <a:latin typeface="Book Antiqua"/>
              </a:rPr>
              <a:t>      </a:t>
            </a:r>
            <a:r>
              <a:rPr b="1" lang="pt-BR" sz="2500" spc="-1" strike="noStrike">
                <a:solidFill>
                  <a:srgbClr val="001932"/>
                </a:solidFill>
                <a:latin typeface="Book Antiqua"/>
              </a:rPr>
              <a:t>X = 3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98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ritm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990720" y="2286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ão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operadores aritmético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em ProLog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adição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subtração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multiplicação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divisão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//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divisão inteira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mod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resto da divisão),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marL="376920" indent="-339120" algn="just">
              <a:lnSpc>
                <a:spcPct val="100000"/>
              </a:lnSpc>
              <a:spcBef>
                <a:spcPts val="700"/>
              </a:spcBef>
              <a:buClr>
                <a:srgbClr val="001932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Times New Roman"/>
              </a:rPr>
              <a:t>^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(potenciação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1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Aritmé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4" name=""/>
          <p:cNvSpPr/>
          <p:nvPr/>
        </p:nvSpPr>
        <p:spPr>
          <a:xfrm>
            <a:off x="4343400" y="2243880"/>
            <a:ext cx="419112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1932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990720" y="2590920"/>
            <a:ext cx="81532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37296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uponha a relação nasceu, que relaciona indivíduos aos respectivos anos de nascimento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372960" algn="just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É possível recuperar as pessoas nascidas entre 1970 e 1980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?- nasceu(Nome, Ano),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o &gt;= 1970,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o =&lt; 1980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indent="372960">
              <a:lnSpc>
                <a:spcPct val="10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São </a:t>
            </a:r>
            <a:r>
              <a:rPr b="1" i="1" lang="en-US" sz="2800" spc="-1" strike="noStrike">
                <a:solidFill>
                  <a:srgbClr val="001932"/>
                </a:solidFill>
                <a:latin typeface="Times New Roman"/>
              </a:rPr>
              <a:t>operadores de comparação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&gt;=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=&lt;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=:=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igual),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=\=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(diferente)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peradores de Compar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990720" y="26668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Importante observar que: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?- 1 + 2 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=:=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2 + 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nquant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?- 1 + 2 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=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2 + 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e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?- 1 + A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=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 + 1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A = 2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B = 1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0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Operadores de Comparaçã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P R O G R A M A Ç Ã O   L Ó G I C A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ão - Definição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Consideremos dois conjuntos de valores S e T.  R é uma </a:t>
            </a: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relação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entre S e T se, para todo x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S e y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 T, R(x,y) qualquer é verdadeira ou falsa.  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marL="380880" indent="-380880" algn="just">
              <a:lnSpc>
                <a:spcPct val="110000"/>
              </a:lnSpc>
              <a:spcBef>
                <a:spcPts val="2001"/>
              </a:spcBef>
              <a:buClr>
                <a:srgbClr val="001932"/>
              </a:buClr>
              <a:buSzPct val="75000"/>
              <a:buFont typeface="Monotype Sort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Quando R(x,y) é verdadeira, dizemos que R associa (relaciona) x e y.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3" name=""/>
          <p:cNvSpPr/>
          <p:nvPr/>
        </p:nvSpPr>
        <p:spPr>
          <a:xfrm>
            <a:off x="4343400" y="2213280"/>
            <a:ext cx="4191120" cy="42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Funções Predefinidas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i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990720" y="25142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 ProLog possui conjunto de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funções predefinida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úteis à realização de cálculos científicos: 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1047600" indent="-285480" algn="just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cox(X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- cosseno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1047600" indent="-285480" algn="just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in(X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- sen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lvl="1" marL="1047600" indent="-285480" algn="just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sqrt(X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- raiz quadrada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1047600" indent="-285480" algn="just">
              <a:lnSpc>
                <a:spcPct val="90000"/>
              </a:lnSpc>
              <a:spcBef>
                <a:spcPts val="700"/>
              </a:spcBef>
              <a:buClr>
                <a:srgbClr val="01b0ff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ound(X, N)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- arredondando X para N casas decimais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  <a:p>
            <a:pPr lvl="1" marL="1047600" indent="-285480" algn="just">
              <a:lnSpc>
                <a:spcPct val="90000"/>
              </a:lnSpc>
              <a:spcBef>
                <a:spcPts val="601"/>
              </a:spcBef>
              <a:buClr>
                <a:srgbClr val="01b0ff"/>
              </a:buClr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i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- valor de pi com 15 casas decimais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198108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Funções Predefini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0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screver programa em Prolog para calcular o fatorial de um número dado qualqu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1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Escrever programa em Prolog para verificar se dois números dados são múltiplos entre s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2.  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ropor duas situações problemas cujas soluções possam ser implementadas com os recursos aritméticos da Prolog e implementá-l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90360" y="2209680"/>
            <a:ext cx="3352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Histórico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Programa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laúsul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Fatos - Regr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apeando Solu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bjetos e Relaçõe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mpilador Prolog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ultas 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Constantes -Variávei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  <a:p>
            <a:pPr marL="3769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Múltiplas Chamadas</a:t>
            </a:r>
            <a:endParaRPr b="0" lang="en-US" sz="2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181600"/>
            <a:ext cx="419112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finição de Relações - Regr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ndentação - Coment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Recursivida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isjun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Predic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Aritmétic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Operadores de Compar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Funções Predefin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ontro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990720" y="2437920"/>
            <a:ext cx="81532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42720" algn="just">
              <a:lnSpc>
                <a:spcPct val="110000"/>
              </a:lnSpc>
              <a:spcBef>
                <a:spcPts val="700"/>
              </a:spcBef>
              <a:buClr>
                <a:srgbClr val="99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A definição de um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lista vazia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em ProLog é: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 []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.  Não vazia: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[H|T] - lista com cabeça H e corpo T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3" name=""/>
          <p:cNvSpPr/>
          <p:nvPr/>
        </p:nvSpPr>
        <p:spPr>
          <a:xfrm>
            <a:off x="990720" y="3505320"/>
            <a:ext cx="815328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[X|Y] = [a,b,c]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X = a  Y = [b,c]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[X,Y,Z] = [a,b,c,d]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[X,Y,Z] = [a,b,c]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X = a  Y = b  Z = c 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[X|[Y|Z]] = [a,b,c,d]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X = a  Y = b  Z = [c,d]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685440" y="41868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5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066680" y="2362320"/>
            <a:ext cx="8077320" cy="19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10000"/>
              </a:lnSpc>
              <a:buClr>
                <a:srgbClr val="001932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Para </a:t>
            </a: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construção de listas</a:t>
            </a: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 tem-s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1932"/>
                </a:solidFill>
                <a:latin typeface="Courier New"/>
              </a:rPr>
              <a:t>append(SL1, SL2, LR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SL1 - primeira sublista;  SL2 - segunda sublist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ffffff"/>
                </a:solidFill>
                <a:latin typeface="Times New Roman"/>
              </a:rPr>
              <a:t>LR - lista resultante da união de SL1 e SL2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66680" y="4419720"/>
            <a:ext cx="807732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1932"/>
                </a:solidFill>
                <a:latin typeface="Times New Roman"/>
              </a:rPr>
              <a:t>Exempl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?- append([a,b],[c,d],L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L = [a,b,c,d]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?- append([a,b],[c,d],[a,b,c,d]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762120" y="418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9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990720" y="1981080"/>
            <a:ext cx="81532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Usando a relação</a:t>
            </a: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 append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, defina as consultas necessárias para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3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Dadas uma lista L1 e uma sublista L2, onde L2 está contido em L1, identificar a sublista L1-L2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4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Dada uma lista qualquer, identificar todas as possibilidades de particioná-la em duas sublistas.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90720" y="2514600"/>
            <a:ext cx="815328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Busca em list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1932"/>
                </a:solidFill>
                <a:latin typeface="Book Antiqua"/>
              </a:rPr>
              <a:t>member(Elemento,Lista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001932"/>
                </a:solidFill>
                <a:latin typeface="Book Antiqua"/>
              </a:rPr>
              <a:t>member(Elemento,Lista,Posicao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3962520"/>
            <a:ext cx="815328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Exempl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O quarto elemento da lista [9,4,3,2] é 2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member(2,[9,4,3,2],4)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ffff"/>
                </a:solidFill>
                <a:latin typeface="Times New Roman"/>
              </a:rPr>
              <a:t>Qual o segundo elemento da lista [a,b,c,d]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?- member(E,[a,b,c,d],2).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pt-BR" sz="2500" spc="-1" strike="noStrike">
                <a:solidFill>
                  <a:srgbClr val="ffffff"/>
                </a:solidFill>
                <a:latin typeface="Courier New"/>
              </a:rPr>
              <a:t>E = b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35" name=""/>
          <p:cNvSpPr/>
          <p:nvPr/>
        </p:nvSpPr>
        <p:spPr>
          <a:xfrm>
            <a:off x="1143000" y="19810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990720" y="1981080"/>
            <a:ext cx="81532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1932"/>
                </a:solidFill>
                <a:latin typeface="Times New Roman"/>
              </a:rPr>
              <a:t>Exercí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Usando a relação</a:t>
            </a:r>
            <a:r>
              <a:rPr b="1" lang="pt-BR" sz="3000" spc="-1" strike="noStrike">
                <a:solidFill>
                  <a:srgbClr val="ffffff"/>
                </a:solidFill>
                <a:latin typeface="Book Antiqua"/>
              </a:rPr>
              <a:t> member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, defina as consultas necessárias para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5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Verificar se um dado elemento pertende a uma dada lista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6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Identificar quais as posições em que um dado elemento ocupa numa dada lista.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7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Identificar o elemento de uma dada posição numa dada lista.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28. </a:t>
            </a:r>
            <a:r>
              <a:rPr b="0" i="1" lang="pt-BR" sz="3000" spc="-1" strike="noStrike">
                <a:solidFill>
                  <a:srgbClr val="ffffff"/>
                </a:solidFill>
                <a:latin typeface="Times New Roman"/>
              </a:rPr>
              <a:t>Quais os elementos componentes de uma dada lista.</a:t>
            </a:r>
            <a:r>
              <a:rPr b="1" lang="pt-BR" sz="2800" spc="-1" strike="noStrike">
                <a:solidFill>
                  <a:srgbClr val="001932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4186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990720" y="2514600"/>
            <a:ext cx="8153280" cy="39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Definindo uma </a:t>
            </a:r>
            <a:r>
              <a:rPr b="1" i="1" lang="pt-BR" sz="3200" spc="-1" strike="noStrike">
                <a:solidFill>
                  <a:srgbClr val="001932"/>
                </a:solidFill>
                <a:latin typeface="Times New Roman"/>
              </a:rPr>
              <a:t>relação com comportamento similar a </a:t>
            </a:r>
            <a:r>
              <a:rPr b="1" i="1" lang="pt-BR" sz="3200" spc="-1" strike="noStrike">
                <a:solidFill>
                  <a:srgbClr val="001932"/>
                </a:solidFill>
                <a:latin typeface="Courier New"/>
              </a:rPr>
              <a:t>member/2</a:t>
            </a:r>
            <a:r>
              <a:rPr b="0" i="1" lang="pt-BR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urier New"/>
              </a:rPr>
              <a:t>% Se elemento pesquisado constitui a cabeca da lis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membro(Cabeca,[Cabeca|Corpo]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Courier New"/>
              </a:rPr>
              <a:t>% Se elemento pesquisado pertence ao corpo da list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membro(Elemento,[Cabeca|Corpo]):-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pt-BR" sz="2900" spc="-1" strike="noStrike">
                <a:solidFill>
                  <a:srgbClr val="ffffff"/>
                </a:solidFill>
                <a:latin typeface="Courier New"/>
              </a:rPr>
              <a:t>membro(Elemento,Corpo)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1760" y="41868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ccffff"/>
                </a:solidFill>
                <a:latin typeface="Tahoma"/>
              </a:rPr>
              <a:t>Paradigma de Programação Lógico</a:t>
            </a:r>
            <a:r>
              <a:rPr b="0" lang="pt-BR" sz="5500" spc="-1" strike="noStrike">
                <a:solidFill>
                  <a:srgbClr val="ccffff"/>
                </a:solidFill>
                <a:latin typeface="Tahoma"/>
              </a:rPr>
              <a:t> </a:t>
            </a:r>
            <a:br>
              <a:rPr sz="5500"/>
            </a:br>
            <a:r>
              <a:rPr b="1" lang="pt-BR" sz="2400" spc="-1" strike="noStrike">
                <a:solidFill>
                  <a:srgbClr val="001932"/>
                </a:solidFill>
                <a:latin typeface="Tahoma"/>
              </a:rPr>
              <a:t>L I N G U A G E M   P R O L O G</a:t>
            </a:r>
            <a:endParaRPr b="0" lang="en-US" sz="2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21337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1932"/>
                </a:solidFill>
                <a:latin typeface="Times New Roman"/>
              </a:rPr>
              <a:t>Lis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22:54:38Z</dcterms:created>
  <dc:creator>KENIA KODEL COX</dc:creator>
  <dc:description/>
  <dc:language>en-US</dc:language>
  <cp:lastModifiedBy>Universidade Federal de Sergipe</cp:lastModifiedBy>
  <cp:lastPrinted>2003-04-01T23:26:21Z</cp:lastPrinted>
  <dcterms:modified xsi:type="dcterms:W3CDTF">2003-04-05T13:26:42Z</dcterms:modified>
  <cp:revision>256</cp:revision>
  <dc:subject/>
  <dc:title>Inteligência Artificial</dc:title>
</cp:coreProperties>
</file>