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7D9D-AC0D-425E-851D-ABFE36BE4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s valores de Pascal: valores primitivos (bool, enumrados, ...), valores compostos (arrays, registros, sets e arquivos), ponteiros, referências a variáveis, procedimentos e funç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m todo conjunto é um tipo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(SxT) = #Sx#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ype Shape = (point, circle, bo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gure = record x,y:Rea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se figureShape:Sha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int : (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ircle : (radius:Rea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ox: (height, width:Rea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: L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m todos os erros podem ser descobertos esta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ndexação de um array fora dos lim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alores fora dos intervalos decla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essos inconsistentes a campos de registros invari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ão há como saber qual é o código executado, por exemplo, 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x:=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scal? Não. Erros com registros variantes 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erção. + coerção, - confiabilidade. Java tem a metade das coerções de C++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indextype = 1..1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count : integ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ndex:indextype; {baixo eq. por nome seriam incompatívei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gram p(a:array[1..10]of integer) 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 não pode ser usado nunca pois um parâmetro real (</a:t>
            </a: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actual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irá ter tipo incompatível com o parâmetro formal 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hask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Pessoa = String  -- ruim pois não podemos difer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Word = String    -- Pessoa de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Celsius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Floa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Farenheit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is new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loa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quivalência de declaração: é uma adaptação mais fraca de equivalência por 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1AA-7218-4513-846A-C5C0975E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F46-6F18-4012-828F-8A3A362F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626-91A3-4608-AD9A-BA6639B8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465-0290-440E-929C-8D54909F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69D1-F823-4F55-B8D6-DF240186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15B6-D453-4DA9-8895-5D2F145A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380A-972A-48AE-88CD-B4F9EFBC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5DE8-6C19-45D7-90A9-08F0B099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8063-1A55-4A0B-A28F-D3407E3B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952E-6F3D-4780-95A0-02BC5EBF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C4B7-782B-46D1-AB05-59FCF18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F00-8645-45D3-A0F4-DA1A8A16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B5AA-5ED0-4C5F-9D27-54202F2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6358-4DAE-4C6E-B2CF-59C3897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F5A8-A935-4C9C-9A66-5398A4E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4B65-CB5B-4E66-9399-46E4DBE8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7B7A-09BD-44B9-A5B4-C63F76DA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F78-A26C-44B5-8295-2B793620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FFB-4B69-40EB-BDE2-B5C468A0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03C-98EA-4892-A241-2E34A5EF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61D-C322-4B87-9E01-47062933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59E-86F7-4DD1-93B6-43322202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978-1182-4E3B-A1C2-4334826C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6B2-7243-4A51-A083-36792E46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7890-B0C6-4602-8D3B-D547C2D1F4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4848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7632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83908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E17B-942C-45E1-B7CA-BDFD420A83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64848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7632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3908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intaxe e Semânt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mântica Denotacional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: Linguagem de Numerais binários (numerais - sintaxe; número - semânt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eral ::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 Numeral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 Numeral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da numeral denota um número nos natura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lor 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eral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ural   (função semânt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lor 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lor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lor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2 x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l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lor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2 x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l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lor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6  (usando as funções aci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9B9-CDBF-4FB7-A8AA-932AC677CE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mântica Algébr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ecificação de tipos abstratos de dados (elementos básicos de qualquer linguagem de programaç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os Abstratos são caracterizados por uma coleção de oper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ores de tipos são especificados indire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junto de valores e coleção de operações sobre estes valores formam uma álgebra -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mântica algébr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men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sinatura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os, símbolos e suas funcion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xiom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omportamento das oper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4F8-AF1A-4D16-82D0-2C035B918A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mântica Algébr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5486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: Natur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ecifica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UR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 :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cc_ : Natura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d_ : Natura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riable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,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d suc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 +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uc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succ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+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7DC-F97A-4957-88BB-565603DA2D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mântica Algébr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5486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: Natur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ecifica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UR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 :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cc_ : Natura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d_ : Natura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riable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,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d suc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 +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uc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succ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+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36760" y="2286000"/>
            <a:ext cx="506952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c succ 0 + succ 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ucc succ succ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3D1-B18C-4F7E-BF3D-8777ACFD65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mântica Algébr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5486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: Natur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ecifica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UR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 :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cc_ : Natura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d_ : Natura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riable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,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d suc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0 +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succ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: succ (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n+m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36760" y="2286000"/>
            <a:ext cx="506952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c succ 0 + succ 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ucc succ succ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7080" y="4800600"/>
            <a:ext cx="5751000" cy="11912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c succ 0 + succ 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cc (succ 0 + succ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cc succ (0 + succ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ucc succ succ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3B9-85A1-4EF1-9D50-D93659095B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mântica Oper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ressa em termos de passos e operações necessários à execução do prog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       (do Pasc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Avalie a expressã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fornecendo um valor boole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e o valor fornecido 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execute o comand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ão repita a partir de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Se o valor fornecido 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ermine a execu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o nos detalhes de execução dificulta a visualização dos efeitos da execução do progra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ântica denotacional - o quê o programa fa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ântica operacional - como o resultado é obtido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D1F-5FDC-4542-856E-23F51A0FCE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ituras Recomendad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ção e Históric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besta: Cap 1 e C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t (Concepts and Paradigms): Prefácio e C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tt: Ca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taxe e Semân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besta: C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t (Programming Language Syntax and Semantics): Cap 1, C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FDA-EB89-4B9E-ABFD-AF8053D68E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alores e Tip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valor é uma entidade que existe durante uma compu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 ser avaliado, armazenado, incorporado numa estrutura de dados, passado como argumento, devolvido por uma função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tipo é um conjunto de valores que exibem um comportamento uniforme sobre operações associadas a e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a linguagem 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primitivos (atôm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comp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recur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CC8-297B-4F27-8C6F-A5B7B39316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ipos Primiti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cujos valores são atôm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tipos primitivos mais comuns sã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uth-Value = {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true, fals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ger = {...,-2,-1,0,1,2,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al = {...,-1.0, ... 0.0, ...,1.0 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haracter = {...'a',..., ’z',...} (ascii ou unic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enume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: Mês = (jan,fev,mar,abr,mai,jun,jul,ago,set,out,nov,de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discretos primitivos (ordinais em Pasc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rdinalidade: tamanho do t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: #Mês =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# Integer = 2 x maxint +1 (Pasc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827-28A2-4418-AAA0-1453D5D0B5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ipos Compostos (estruturado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valores são compostos a partir de outros mais si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dutos Cartesianos (tuplas e registr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niões Disjuntas (uniões, registros varian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peamenteos (arrays e funçõ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owerset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conjunt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recursivos (estrutura de dados dinâm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B32-95D7-40DD-B86B-FAE0B5FCF0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ntaxe e Semânt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taxe: forma da lingu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ântica: significado da lingu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l (como vai ser visto no cur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l (visão ger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C15-A331-4463-8B31-4AE7F4AAD8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dutos cartesian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 = {(x,y)|x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; y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47920" y="2057400"/>
            <a:ext cx="6246720" cy="1523880"/>
            <a:chOff x="1447920" y="2057400"/>
            <a:chExt cx="6246720" cy="1523880"/>
          </a:xfrm>
        </p:grpSpPr>
        <p:sp>
          <p:nvSpPr>
            <p:cNvPr id="160" name=""/>
            <p:cNvSpPr/>
            <p:nvPr/>
          </p:nvSpPr>
          <p:spPr>
            <a:xfrm>
              <a:off x="1447920" y="2514600"/>
              <a:ext cx="1218960" cy="533520"/>
            </a:xfrm>
            <a:prstGeom prst="flowChartAlternateProcess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6360" y="2514600"/>
              <a:ext cx="1218960" cy="533520"/>
            </a:xfrm>
            <a:prstGeom prst="flowChartAlternateProcess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6160" y="2666880"/>
              <a:ext cx="15192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9680" y="2666880"/>
              <a:ext cx="15192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90760" y="2666880"/>
              <a:ext cx="15192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9880" y="2666880"/>
              <a:ext cx="15192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28640" y="2666880"/>
              <a:ext cx="15228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01280" y="274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4800" y="274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53760" y="2743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5000" y="274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5520" y="2743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86040" y="2057400"/>
              <a:ext cx="2133360" cy="1523880"/>
            </a:xfrm>
            <a:prstGeom prst="flowChartAlternateProcess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4840" y="2895480"/>
              <a:ext cx="15228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53080" y="2895480"/>
              <a:ext cx="15192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0960" y="2895480"/>
              <a:ext cx="15192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14840" y="236232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53080" y="2362320"/>
              <a:ext cx="15192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0960" y="2362320"/>
              <a:ext cx="15192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87320" y="3048120"/>
              <a:ext cx="60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(v,c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25560" y="304812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(v,b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39400" y="3048120"/>
              <a:ext cx="60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(v,a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7320" y="2514600"/>
              <a:ext cx="60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(u,c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5560" y="251460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(u,b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3080" y="2438280"/>
              <a:ext cx="60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(u,a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3160" y="3733920"/>
            <a:ext cx="739764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Pascal, podemos interpretar que o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cord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l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 l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 .... l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T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m valores que são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úplas do conjunto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...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esso às componentes usando a notação po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02400" y="323532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#(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) = #S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#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BC7-724C-45B6-9B45-F47B33B29D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Uniões Disjun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 = {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left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 | x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 }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{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right y |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marcas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tag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left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right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em somente para distinguir de que conjunto o valor foi p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#(S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) = #S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#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3886200"/>
            <a:ext cx="1218960" cy="533520"/>
          </a:xfrm>
          <a:prstGeom prst="flowChartAlternateProcess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86200"/>
            <a:ext cx="1218960" cy="533520"/>
          </a:xfrm>
          <a:prstGeom prst="flowChartAlternateProcess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4038480"/>
            <a:ext cx="15228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4038480"/>
            <a:ext cx="15264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4038480"/>
            <a:ext cx="15228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4038480"/>
            <a:ext cx="15264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4038480"/>
            <a:ext cx="15228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1640" y="411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5160" y="411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4120" y="41148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360" y="411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6240" y="41148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429000"/>
            <a:ext cx="2133720" cy="1523880"/>
          </a:xfrm>
          <a:prstGeom prst="flowChartAlternateProcess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4267080"/>
            <a:ext cx="15228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4267080"/>
            <a:ext cx="15264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4267080"/>
            <a:ext cx="15228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733920"/>
            <a:ext cx="15264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3733920"/>
            <a:ext cx="15228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3080" y="388620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lef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480" y="388620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lef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3080" y="449568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ight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49240" y="4495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ight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4680" y="449568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ight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E6F-0CF0-4C36-83E7-8991D3D6B2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Uniões Disjun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 = {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left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 | x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 }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{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right y |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definição pode ser estendida para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+...+S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perações comuns: teste de marca, projeçõe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: uniões disjuntas usando registros vari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ccurracy = (exact, approx)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Number =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cord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as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cc : Accurracy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act : (ival : Integer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prox : (rval : Re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512-5752-42C4-9F39-21CC85007A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Uniões Disjuntas (Con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gistros Vari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gistros variantes são inseguros: o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ag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tratado como um campo com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forma mais segura de decompor um registro variante é usando um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: um único conceito para produto cartesiano e uniões disju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ns Funcionais: tipos algéb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data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umber = Exact Integer | Approx Dou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osição de valores usando os constru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lores decompostos por casamento de padr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D5D-7F01-40B2-932B-ADC47DCB1A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apeamentos (ou funçõe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 = { m | x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 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m(x)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#(S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)=(#T)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#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00200" y="3352680"/>
            <a:ext cx="1218960" cy="596880"/>
            <a:chOff x="1600200" y="3352680"/>
            <a:chExt cx="1218960" cy="596880"/>
          </a:xfrm>
        </p:grpSpPr>
        <p:sp>
          <p:nvSpPr>
            <p:cNvPr id="219" name=""/>
            <p:cNvSpPr/>
            <p:nvPr/>
          </p:nvSpPr>
          <p:spPr>
            <a:xfrm>
              <a:off x="1600200" y="3352680"/>
              <a:ext cx="1218960" cy="533520"/>
            </a:xfrm>
            <a:prstGeom prst="flowChartAlternateProcess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28800" y="350532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1960" y="3505320"/>
              <a:ext cx="15264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5392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744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600200" y="4724280"/>
            <a:ext cx="1218960" cy="596880"/>
            <a:chOff x="1600200" y="4724280"/>
            <a:chExt cx="1218960" cy="596880"/>
          </a:xfrm>
        </p:grpSpPr>
        <p:sp>
          <p:nvSpPr>
            <p:cNvPr id="225" name=""/>
            <p:cNvSpPr/>
            <p:nvPr/>
          </p:nvSpPr>
          <p:spPr>
            <a:xfrm>
              <a:off x="1600200" y="4724280"/>
              <a:ext cx="1218960" cy="533520"/>
            </a:xfrm>
            <a:prstGeom prst="flowChartAlternateProcess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14600" y="487692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360" y="4876920"/>
              <a:ext cx="15264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2480" y="487692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7600" y="495288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58840" y="4952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9720" y="495288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438280" y="3581280"/>
            <a:ext cx="1526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828800" y="3581280"/>
            <a:ext cx="7632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43360" y="3009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3000" y="5295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920" y="5638680"/>
            <a:ext cx="16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{u </a:t>
            </a:r>
            <a:r>
              <a:rPr b="0" lang="pt-BR" sz="18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a, v </a:t>
            </a:r>
            <a:r>
              <a:rPr b="0" lang="pt-BR" sz="18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 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724280" y="3314880"/>
            <a:ext cx="1218960" cy="596520"/>
            <a:chOff x="4724280" y="3314880"/>
            <a:chExt cx="1218960" cy="596520"/>
          </a:xfrm>
        </p:grpSpPr>
        <p:sp>
          <p:nvSpPr>
            <p:cNvPr id="238" name=""/>
            <p:cNvSpPr/>
            <p:nvPr/>
          </p:nvSpPr>
          <p:spPr>
            <a:xfrm>
              <a:off x="4724280" y="3314880"/>
              <a:ext cx="1218960" cy="533160"/>
            </a:xfrm>
            <a:prstGeom prst="flowChartAlternateProcess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52880" y="3467160"/>
              <a:ext cx="152280" cy="151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86040" y="3467160"/>
              <a:ext cx="152640" cy="151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78000" y="354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11520" y="354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724280" y="4686480"/>
            <a:ext cx="1218960" cy="596520"/>
            <a:chOff x="4724280" y="4686480"/>
            <a:chExt cx="1218960" cy="596520"/>
          </a:xfrm>
        </p:grpSpPr>
        <p:sp>
          <p:nvSpPr>
            <p:cNvPr id="244" name=""/>
            <p:cNvSpPr/>
            <p:nvPr/>
          </p:nvSpPr>
          <p:spPr>
            <a:xfrm>
              <a:off x="4724280" y="4686480"/>
              <a:ext cx="1218960" cy="533160"/>
            </a:xfrm>
            <a:prstGeom prst="flowChartAlternateProcess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4838760"/>
              <a:ext cx="152280" cy="151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440" y="4838760"/>
              <a:ext cx="152640" cy="151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76560" y="4838760"/>
              <a:ext cx="152280" cy="151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01680" y="49147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82920" y="4914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63800" y="49147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562720" y="3543480"/>
            <a:ext cx="1522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678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67080" y="5257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27000" y="5638680"/>
            <a:ext cx="16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{u </a:t>
            </a:r>
            <a:r>
              <a:rPr b="0" lang="pt-BR" sz="18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, v </a:t>
            </a:r>
            <a:r>
              <a:rPr b="0" lang="pt-BR" sz="18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 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3581280"/>
            <a:ext cx="6858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4F2-B563-47B8-967D-FCE2010C71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apeamentos (ou funçõe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rrays podem ser entendidos como mapeamentos finitos dos índices para as compon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 e Ada: tipos discretos primitivos como índice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olor = (red, green, blue)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Pixel = array [Color] of 0..1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valor do tipo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ixe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por exemplo, é: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{ red </a:t>
            </a:r>
            <a:r>
              <a:rPr b="0" lang="pt-BR" sz="24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0, green </a:t>
            </a:r>
            <a:r>
              <a:rPr b="0" lang="pt-BR" sz="24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1, blue </a:t>
            </a:r>
            <a:r>
              <a:rPr b="0" lang="pt-BR" sz="2400" spc="-1" strike="noStrike">
                <a:solidFill>
                  <a:srgbClr val="ffffff"/>
                </a:solidFill>
                <a:latin typeface="MT Extra"/>
                <a:ea typeface="MT Extra"/>
              </a:rPr>
              <a:t>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0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ó tipos discretos por motivos de efici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A7A-CAB6-49BF-B556-CF4592A566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apeamentos(con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rrays multi-dimensionais podem ser vistos como mapeamentos de tuplas (formadas pelos índices) nos ele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gumas linguagens permitem arrays indexados com uma diversidade maior de tipos como índ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uma linguagem funcional, abstração de funções também poderiam ser interpretadas como mapea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uma linguagem imperativa, uma abstração de funções nem sempre representa um mapeamento (por causa dos efeitos colatera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abstração função não é o mesmo que função matem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BB7-D1BF-44CA-A27D-DB819BAB34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ipo Conju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ado um conjunto de valores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,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amos interessados em todos os subconjuntos d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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 = { s | s </a:t>
            </a:r>
            <a:r>
              <a:rPr b="0" i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S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perações básicas: pertinência, inclusão, união e interse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#(</a:t>
            </a:r>
            <a:r>
              <a:rPr b="0" i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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) = 2</a:t>
            </a:r>
            <a:r>
              <a:rPr b="0" i="1" lang="pt-BR" sz="2400" spc="-1" strike="noStrike" baseline="30000">
                <a:solidFill>
                  <a:srgbClr val="ffffff"/>
                </a:solidFill>
                <a:latin typeface="Times New Roman"/>
              </a:rPr>
              <a:t>#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 -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 of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: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Color = (red, green, bl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 =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 o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{}, {red},...,{red, blue}, {green,blue}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861-1762-48FA-9D4D-8769D8D1B5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ipos Recursi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qüência de valores, podendo ter 0 ou mais compon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amanh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a lista - número de ele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Lista vazi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- lista sem compon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Listas homogêneas -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onentes de um mesmo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sta inteira - lista vazia ou um par contendo um inteiro (cabeça) e uma lista de inteiros (cau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72A-A9E5-41E6-A48D-915C155A84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ipos Recursi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Hask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at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ntList = Nil | Cons(Int,IntLi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mos interpretar a defn. anterior como sendo uma equação de tip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List = Unit + (Int,IntLi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, em outras palavra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List = {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ni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 ) } + {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on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u,v) | u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, v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List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istem várias soluções para esta equação. Em geral, do ponto de vista computacional interessa a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F19-583F-4BDB-AE28-4DDC0761BF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ntax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la anter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N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Árvores de Deri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bigü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ressão de Precedência e Associatividade de Operadores em BN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la hoj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BN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fos Sintá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66F-28DE-4318-BEBE-68C07D43A5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qüência de caract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imitivos ou Compostos? Que operaçõ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 e Ad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tring é um tipo composto. Alias, são açúcar sintático de arrays de caract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trings possuem tamanho máx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L: Strings são primi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askell e Prolog: lista de caract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as as operações sobre listas servem para St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C7B-7E28-470A-AAFD-7F91D29234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istemas de Tip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stringem o grau de liberdade dos program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que são necessários os tip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evinem que os programas façam operações que não tem sentido (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ecagem de Tipo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ermitem descrever dados de maneira estrutu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gramas mais confiáv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gramas mais efic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documentam os progra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a prática, toda linguagem é tip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0B4-C105-4C91-93B3-C5A62BA88E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hecagem de Tip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ecagem estáticas – realizadas em tempo de compi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ecagem dinâmicas –  em tempo de exec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nguagens estaticamente tip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edominam as checagem está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a variável e parâmetro tem tipo fixo, escolhid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tipos das expressões podem ser deduzidos, e por tanto checados, na compi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gramas mais efic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rros são descobertos mais ce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lexibilidade reduzida para 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E69-A717-4AF2-BC46-2F4F20D12F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hecagem de Tip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nguagens dinamicamente tip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omente os valores tem tipo fi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riáveis podem ter tipos diferentes em tempos diferentes e portanto não se sabe o tipo de uma expressão no momento da compi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ior flexi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gramas menos efic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scetível a erros (programas pouco confiávei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almente, linguagens interpre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306-D020-4DD9-832A-E87BB6B60A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Linguagens Fortemente Tipad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da nome de um programa tem um único tipo associado a ele; e é conhecido na compi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rros de tipos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mpr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ão detec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 é fortemente tipada? quas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ortran: não checa parâmetros, EQUIVA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 e C++: permitem funções sem verificação de parâmetros, unions e coerção de pontei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ava é fortemente tip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erção: enfraquece o valor da checagem de t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E22-05E5-46BB-93D1-BE2E6E4C27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quivalência (Compatibilidade) de Tip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ecagem de tipos requer de uma definição de equivalência de t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quivalência por Nom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 duas variáveis tem tipos equivalentes sse foram declaradas no mesmo lugar ou em declarações que usam o mesmo nome do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ácil de implementar porém altamente restri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bfaixa de inteiro não é compatível com int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de parâmetros estruturados tem que ser declarados uma única vez globalm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B30-150E-47C8-ABB0-C69158E1A4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quivalência de Tip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quivalência Estrutur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'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s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'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tem os mesmos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 ser verificada checando as estruturas dos t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is flexível porém mais difícil de implemen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recur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ando registros são equival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rray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ão permite diferenciar tipos com a mesma estru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Pascal, a equivalência é por nome ou por estrutur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139-C6E4-4073-91A2-798EAB2CF7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quivalência de Tip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Pa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1 = array [1..10] of integer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2 = array [1..10] of integer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3 = tipo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ão há equivalência por estrutura pois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1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ipo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em equivalência por nome pois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3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ipo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quivalência de declaraç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'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se foram definidos no mesmo lu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a: equivalência por nome porém permitindo tipos derivados e subtip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elsius is new FLO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sub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MALL_INT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NTEGER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an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0..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1A6-A038-43A0-B86B-BDC2566D57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quivalência de Tip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askell: equivalência por estrutura permitindo declarações de tipos novos (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wtyp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: equivalência estrutural exceto que para estruturas definidas no mesmo arquivo usa equivalência de declar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++: por nome. Note qu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ypede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não define um tipo novo (só sinônim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ava: por 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182-ECDE-4538-A289-903B08F6971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 princípio da </a:t>
            </a: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completu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É comum que, em alguns casos, as linguagens restrinjam o uso de alguns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ções não podem ser devolvidas como resultados de  funções, nem podem ser atribuídas, nem usadas como componentes de um registr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mamos estes valores,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idadãos de segunda c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iros, booleanos, float, strings, etc. podem ser usados sem estas restrições: são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idadãos de primeira c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ípio da Completud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Nenhuma construção lingüística deveria ser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arbitrariament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restrita nos tipos dos valores envolv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D7E-02DF-4CBB-8445-D440D7AD46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ntax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BNF  (extensão de BN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lhora legi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ão aumenta poder de expr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cionais (denotados por []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seleção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expr&gt;) &lt;comando&gt;[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comando&gt;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etição (dentada por {}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sta_id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id&gt;{,&lt;id&gt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olha múltip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r_com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var&gt; := &lt;expr&gt;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|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wn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&lt;expr&gt;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comand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extensões evitam a necessidade de duas regras para os casos ac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F6D-EFD2-48BF-9E6F-D71FE3CFC8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xpressõ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expressão é uma frase de um programa que ao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 avaliada devolve um va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te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6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"casa"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'c'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.3e-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gregado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constrói valores comp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Haskell: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a*2.0, b/2.0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[2,3,fact 5,4*6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: não tem agreg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.nome := "João"; p.nasc := 1980; p.sexo='M'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 := (nome =&gt; "João"; nasc =&gt; 1980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sexo =&gt;'M'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61B7-FE77-43EF-9D19-0CDAB53E9DD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xpressõ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madas a f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icamente a sintáxe é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(E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..., 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ond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termina qual é a função a ser aplicada e os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terminam os argu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a maioria das linguagens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um identificador mas em linguagens que tratam as funções como cidadãs de primeira class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ode ser uma expr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perador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ão um caso particular de funções usando notação infix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gumas linguagens modernas reconhecem explicitamente esta analogia (ML, ADA, Haske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is fáceis de serem aprend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suário pode definir seus próprios ope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D6F-E239-4A1C-8561-5F0BC10586A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xpressõ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pressões condicionai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o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 Hask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 e Ada não tê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, C++ e Java possuem o operador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_?_: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esso a variáveis e a constant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Por ex., em Pasc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ons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i=3.1416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r: Real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. 2*pi*r 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veria se prover notação para acessar componentes de variáveis e constantes estruturada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ons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lassic = 'War and Peace'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itle = array [1..16] of Char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pascal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tle[1]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valido porém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assic[1]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n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D5B-B059-4448-8DF0-63FDE310FF6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xpressõ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pressões com bloc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veremos depo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pressões com efeitos colaterai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veremos depo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D4D-2870-43BE-A95A-77FAA59ACC3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Leitur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pítulo 2 do W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ções 4.5, 4.6 e 4.7 do Sebe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FF9-64C7-449F-AA27-4DBBADFA8C7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ntax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NF: &lt;expr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&lt;expr&gt; + &lt;te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  &lt;expr&gt; - &lt;te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 &lt;te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term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&lt;term&gt; * &lt;fato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  &lt;term&gt; /&lt;fato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 &lt;fato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BNF: &lt;expr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&lt;term&gt; {(+ | -) &lt;term&gt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term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&lt;fator&gt; {(* | /) &lt;fator&gt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B9D-CDD6-4210-99BE-3CB7C65A76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ntax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ras extensõ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mite superior de repetições (expoen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bloco&gt;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g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{&lt;comando&gt;}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a 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sta-Id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id&gt;[,&lt;id&gt;]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50E-FD87-4194-82B4-87BFFEE9DD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ntax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fos Sintá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fo direcionado 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ós: símbolos terminais e não-terminais do RHS das regras (retângulos-não-termonais;círculos-termina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stas: seqüência de símbo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: &lt;if_com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condição&gt;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comando&gt; [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comando&gt;]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44880" y="5029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if_com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5105520"/>
            <a:ext cx="685800" cy="3808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533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5105520"/>
            <a:ext cx="1143000" cy="38088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53341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105520"/>
            <a:ext cx="914400" cy="3808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533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5105520"/>
            <a:ext cx="1143000" cy="38088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5334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5334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123720" y="5715000"/>
            <a:ext cx="4876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5715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59436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6095880"/>
            <a:ext cx="685800" cy="3812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5791320"/>
            <a:ext cx="685800" cy="3808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6095880"/>
            <a:ext cx="1143000" cy="38124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59436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6248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86400" y="59436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3E7-54A2-41F1-860B-C3B4A542E1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mânt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l (descrição usando linguagem natur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ot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géb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C47-03E8-4E3B-9BEB-B1EBC6AF2A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mântica Denotacional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da frase (notação, expressão, comando, etc) da linguagem é mapeada para um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ntidade matemát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ue pode ser manipulada independentemente da linguagem. Esta entidade recebe o nome d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notaçã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 f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ântica da linguagem é especificada por funções que mapeiam frases nas suas denotações. Estas funções são chamadas d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semântic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: Linguagem de Numerais binários (numerais - sintaxe; número - semânt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6EE-4903-406A-B399-9CE4601353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03:21:35Z</dcterms:created>
  <dc:creator>Prof. Giovanny Lucero</dc:creator>
  <dc:description/>
  <dc:language>en-US</dc:language>
  <cp:lastModifiedBy>DCCE</cp:lastModifiedBy>
  <dcterms:modified xsi:type="dcterms:W3CDTF">2002-01-07T17:53:36Z</dcterms:modified>
  <cp:revision>94</cp:revision>
  <dc:subject/>
  <dc:title>Valores e Tipos</dc:title>
</cp:coreProperties>
</file>