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1680" y="667800"/>
            <a:ext cx="4456080" cy="33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CF6-BE98-43CE-A08A-A775B39E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copo dinâmico (Lisp e Smalltalk, (APL?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vantage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ão casa com checagem estática de tipos (programas menos confiáve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ções e procedimentos mais difíceis de entender (dependem do contexto onde são cham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nos efic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nta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ermite "passagem de parâmetros" implícita (as variáveis livres atuam como parâme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ntagens de cons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gibilidade e facilidade de modificação (manutençã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minint = - maxint {va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tters = ['a'..'z', 'A'..'Z'] {não va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inchar = chr(0) {não va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alfpi = 0.5*pi {não va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ódula 2 relaxa mais as condições para definição de constantes manifestas (qualquer expressão que possa ser avaliada em tempo de compilaçã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ount : integer {new-variavel, em Pascal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ount : integer :=0; {new-variavel com inicialização, em 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p: integer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names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pulation(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. de declarações em bloco em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 mm() = 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 a ( ) 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 b( ) =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claração em Bloco &lt;=&gt; Encapsulamento (importante que merece um capítu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ínculos: programas mais fáceis de entender (identificadores bem escolhidos), mais flexível (mudar uma constante, por ex)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: const n=7,  var n:integer,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Pascal, valores compostos não são vinculáveis. Note que Haskell é mais unifor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da, em qualquer lugar onde for aceito um comando posso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emp: inte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emp:=firs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vantagens .....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274-AF12-4525-86F8-B8325827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23C-0FA3-4200-A8B6-BBA57AA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B24-81C9-4EE5-B5FA-35D10952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FCF-FA72-47A3-ADB4-2292EE6E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325-14B0-414B-BFF8-BCB62AE0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3907-4AB1-42CB-8EFC-1EF7912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E50F-CFBB-4F98-BD2F-B0CE5CE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340-E25C-48C8-8A4B-80E31F2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1659-36BE-44D2-B34F-D725242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2925-5814-4087-96A9-FF4FE8FE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272-2567-440E-9451-A5E9743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C29-B594-46C5-AB3E-4136DCFB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9BE-A1F5-41E4-84B2-554FFDF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5C53-1F22-4DAF-B474-4F42515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0A6C-5451-42E6-9954-72699E1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8507-225A-4FD2-BFB8-9302A082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E542-86E1-4F79-BC22-131A8BC7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8EC-E7A6-4B33-9E62-34690D5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AC1-2060-4E58-8B26-1E6C5BA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875-032E-40E4-90D6-46C0695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39D-7927-4669-B687-7A3F2CC3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5C0-C50C-46AD-A539-DB91021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ED0-4D0C-4A6E-8D52-FE55996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A33-0973-4802-B92F-6D8D89C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0D3-5AFC-407F-A214-DAC590C3CE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150-809F-41F8-A465-D357CEFED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ínculos (Associaçõ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f. Giovanny Luc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po Estático vs Dinâm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 = 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caled (d:Intege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caled := d*s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 = 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 scaled(h)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 scaled(h)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0988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i dinâm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o bloco onde é invocado o procedimento/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opo Dinâm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Vínculo do ancestral dinâmico mais pró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escopo estático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cale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avaliada no ambiente da definição da função (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mpre denota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inâmico: a função é avaliada no ambienta da chamada da 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</a:t>
            </a:r>
            <a:r>
              <a:rPr b="0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</a:t>
            </a:r>
            <a:r>
              <a:rPr b="0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2AB-EFEE-4628-9167-E4D25082F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e Definiç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lar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a frase de um programa que ao ser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aborad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roduz vínc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iniçõ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ão simples declarações cujo único efeito é produzir víncu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declarações de constante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nifesta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m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 ser um literal, identificador ou + ou - unários aplicado a um desses. Porqu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avaliado em tempo de compilação (vinculação estátic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A, C++ e Java permitem vinculação dinâmica de cons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os exs.: definições de Haskell, definições de funções e procedimentos de Pasc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611-1448-4ED7-97AE-FC0643AC3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inição de tip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rve só para vincular um identificador com um tipo exist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existe em lings. com equivalência de tipos estru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declaraçõe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Has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laração de um tipo nov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ew type declaratio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 cria um tipo e produz um vín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equada para eqv. por nome ou por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wtyp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data de Haskell, declarações de tipo em Pascal e Ad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229-43AD-49B6-B141-743A57ADE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de tipos no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arenheit =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elsius =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te caso farenheit e celsius serão tipos compatí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de tipos novos resolve o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Has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arenheit = Farenheit 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elsius = Celsius 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elsius is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arenheit is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68D-45C0-4B62-878B-CD284F1F6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de variá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laração de variável nov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ria uma variável e produz um vín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declarações de variáveis em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inição de variáve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ó produz um vínculo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lia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nam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m A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:integer;                   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declaraçã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:intege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nam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; 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definiçã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77F-0D54-40BD-83AF-18745F460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Declarações colaterais e Seqüencia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ML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 D1 e D2 independentemente e então combina os bindings produzidos. Por 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pi  =  3.14.159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in =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x:real) =&gt;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s =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x:real) =&gt;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poderia ser ilegal adi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an =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x:real) =&gt; sin(x) / cons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larações seqüenciais (Pascal, Ada....)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:integer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d1;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:=c+1;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531-5BD0-4812-91AB-9559BC5041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recursiv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declaração recursiva usa os todos os bindings que ela mesmo produ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ões de tipos podem ser recursivas porém só restrito a ponteiros. Ex.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dimentos e funções são automaticamente recur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dimentos e funções mutuamente recursivos com </a:t>
            </a: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F23-F4C5-4D39-B17D-7B1BC2F6C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1720" y="684360"/>
            <a:ext cx="7072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mpar(x: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intege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pt-BR" sz="2800" spc="-1" strike="noStrike" u="sng">
                <a:solidFill>
                  <a:srgbClr val="99ff66"/>
                </a:solidFill>
                <a:uFillTx/>
                <a:latin typeface="Arial"/>
              </a:rPr>
              <a:t>forwar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(x: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intege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800"/>
            </a:b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x=0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 :=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 := impar(x-1);</a:t>
            </a:r>
            <a:br>
              <a:rPr sz="2800"/>
            </a:b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mpar(x: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intege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800"/>
            </a:b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x=0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mpar :=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impar := par(x-1)</a:t>
            </a:r>
            <a:br>
              <a:rPr sz="2800"/>
            </a:br>
            <a:r>
              <a:rPr b="0" lang="pt-BR" sz="28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40D-B24B-4407-B3CD-D1E509EDB9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clarações recursiv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vantagem em tratar declarações como automaticamente recur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3840" y="2332080"/>
            <a:ext cx="482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of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 : Text)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oolea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of := eof( f) or (f^ ='*'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038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ML o programador explicita a recurs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00960" y="4572000"/>
            <a:ext cx="720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l </a:t>
            </a:r>
            <a:r>
              <a:rPr b="0" lang="pt-BR" sz="2400" spc="-1" strike="noStrike" u="sng">
                <a:solidFill>
                  <a:srgbClr val="99ff66"/>
                </a:solidFill>
                <a:uFillTx/>
                <a:latin typeface="Arial"/>
              </a:rPr>
              <a:t>re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ower =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x:real, n:int) =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 = 0 then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 &lt; 0 then 1.0 / power (x,-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x * power (x, n-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EEB-59DB-49B1-B74F-5591A73443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Blo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ando em Blo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Um comando que contém declarações locais. Os vínculos produzidos pela elaboração das declarações locais só são usados para avaliar o coma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ressão em Blo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Uma expressão que contém declaraçõe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ípio da Qualific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é possível incluir um bloco em qualquer classe sintática que especifique alguma forma de comput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67C-B0FF-4A53-8B3E-F03A1DB95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ínculos e Ambi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ns permitem vincular identificadores com entidades tais como constantes, variáveis, procedimentos, funções e t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l é o significado de frases como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+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:=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resposta depende do contexto (ambi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declaração produz u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ínculo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.e., uma associação entre um identificador e a entidade que irá deno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mbien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 conjunto de víncu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 expressão ou comando é interpretada dentro de um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s as variáveis na expressão ou comando devem ter vínculos n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ambiente é um mapeamento de identificadores nas entidades que eles denota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BF0-BC22-4178-AD9E-7477B2394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mbientes -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gr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z = 0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: cha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q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 = 3.0e6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 : boolean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... </a:t>
            </a:r>
            <a:r>
              <a:rPr b="0" lang="pt-BR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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... </a:t>
            </a:r>
            <a:r>
              <a:rPr b="0" lang="pt-BR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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mbiente em </a:t>
            </a:r>
            <a:r>
              <a:rPr b="0" lang="pt-BR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variável caracter,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rocedimento,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inteiro 0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mbiente em </a:t>
            </a:r>
            <a:r>
              <a:rPr b="0" lang="pt-BR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variável booleana,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número 3000000.0,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rocedimento,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inteiro 0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8C5-4973-496A-B78D-71DABAE26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inculá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tidades que podem ser vinc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primitivos e Strings (definições de constan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ferências a variáveis (em declarações de variáve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dimentos e funções (declarações de fun. e pro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(em declarações de tip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os os valores: primitivos, compostos, funções (em definiçõ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(em declarações type, data e newtyp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B3F-DA3B-4A60-9438-653F00365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p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 declaração tem um cert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op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qual representa 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rção de tex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o programa  sobre a qual a declaração é efe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lo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a frase de programa que delimita o escopo das declarações que ele conté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inclui blocos baseados em procedimentos e fun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e procedimentos podem ser aninh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C, C++ e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locos não são baseados em procedimentos e fun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e procedimentos não podem ser aninh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++ e Java: definições de classes são blo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751-759E-4F15-8910-F5E6D5429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6880" y="3048120"/>
            <a:ext cx="2971800" cy="335268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truturas de Blo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1600200"/>
            <a:ext cx="304812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2840" y="1676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495680"/>
            <a:ext cx="2286000" cy="83844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2840" y="3048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505320"/>
            <a:ext cx="2286000" cy="8380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0160" y="3505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44956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486400"/>
            <a:ext cx="2286000" cy="8380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318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rutura Mon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Cobol antig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80988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rutura Pl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Fortr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29718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8862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276720"/>
            <a:ext cx="7621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3809880"/>
            <a:ext cx="1143000" cy="30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800600"/>
            <a:ext cx="1295640" cy="457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913-C60E-4337-A8BD-CE156FAFC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truturas de Bloc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828800"/>
            <a:ext cx="297180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440" y="20574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514600"/>
            <a:ext cx="2438640" cy="15238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8760" y="2514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4114800"/>
            <a:ext cx="2438640" cy="12193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971800"/>
            <a:ext cx="205740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91120"/>
            <a:ext cx="213336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505320"/>
            <a:ext cx="205740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97240" y="411480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claração de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572000"/>
            <a:ext cx="14475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4800600"/>
            <a:ext cx="14475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8288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124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495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declaraç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133720"/>
            <a:ext cx="7621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048120"/>
            <a:ext cx="1066680" cy="304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4800600"/>
            <a:ext cx="12956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59092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rutura Aninh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ascal, Ada, Haskell, C++, Java, .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BEC-0DD9-4C17-AB2B-020FB429C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po e Visibil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corrência de vínculo de um identificad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no ponto da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corrência aplicada de um identificad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ssociada a uma ocorrência de vínculo. Por ex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t n=7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de víncul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 n*(n-1) ..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aplicad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id.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 ser declarado em diferentes blocos, podendo denotar diferentes ent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 passa se um id. é declarado em dois blocos aninhad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declaração do bloco mais interno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on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a declaração do bloco mais ex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975-0C85-4DE7-8925-4AB63AF6E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po Estático vs. Dinâm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7636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i estát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o bloco que envolve imedia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opo Estát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Uma ocorrência aplicada d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 corresponde com a ocorrência de vínculo d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ancestral estático mais próximo (incluindo o próprio bloco ini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é diferente de Tempo de 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2600" indent="-1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variávei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ack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á uma relação entre a ativação do bloco e o tempo de 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2600" indent="-1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outros casos não (ex. variáveis estática e variávei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ea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828800"/>
            <a:ext cx="990720" cy="236232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981080"/>
            <a:ext cx="609480" cy="91440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048120"/>
            <a:ext cx="609480" cy="91440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133720"/>
            <a:ext cx="228600" cy="30456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514600"/>
            <a:ext cx="228600" cy="30492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200400"/>
            <a:ext cx="152280" cy="53352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576" y="0"/>
                </a:moveTo>
                <a:lnTo>
                  <a:pt x="0" y="0"/>
                </a:lnTo>
                <a:lnTo>
                  <a:pt x="0" y="1056"/>
                </a:lnTo>
                <a:lnTo>
                  <a:pt x="624" y="105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000" y="1641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604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5680" y="286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692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72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656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3040" y="441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84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6240" y="510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2200" y="571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1680" y="571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628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0040" y="48769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9520" y="495288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364760" y="54864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3720" y="54864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36720" y="5486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FB3-C721-4B50-B750-E3ACFCC63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21:56:09Z</dcterms:created>
  <dc:creator>Prof. Giovanny Lucero</dc:creator>
  <dc:description/>
  <dc:language>en-US</dc:language>
  <cp:lastModifiedBy>DCCE</cp:lastModifiedBy>
  <cp:lastPrinted>2002-01-23T16:16:22Z</cp:lastPrinted>
  <dcterms:modified xsi:type="dcterms:W3CDTF">2002-01-23T16:27:42Z</dcterms:modified>
  <cp:revision>89</cp:revision>
  <dc:subject/>
  <dc:title>Vínculos (Associações)</dc:title>
</cp:coreProperties>
</file>